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63C-136B-43AF-8C6C-FF2E371D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56B-E6B4-4BC1-A153-4CE5E200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149-7721-4BFC-B00A-7A1A3B33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34D-616E-4261-91AD-49B80576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4DE-6178-477B-8F61-2E68542A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10D-1E49-4A92-BB13-205A6C18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E7B-43FD-496F-8956-39616615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CC6-8ECC-4950-9478-5814989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2F8-4F79-4ABC-8113-AC06F2EA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C8F-8705-45DC-BBE9-CA7196D5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4B6-523A-4A22-96CD-538B7F8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5B7-E1F6-4BCA-A5CB-C4D67773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66A0-FAB9-4D05-9300-49D250706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6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8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9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85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4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283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282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281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280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279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78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正方形/長方形 116"/>
          <p:cNvSpPr/>
          <p:nvPr/>
        </p:nvSpPr>
        <p:spPr>
          <a:xfrm>
            <a:off x="3435480" y="776160"/>
            <a:ext cx="484200" cy="58881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53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54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16"/>
          <p:cNvSpPr/>
          <p:nvPr/>
        </p:nvSpPr>
        <p:spPr>
          <a:xfrm>
            <a:off x="3430440" y="78408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0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83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84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95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96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106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107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116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117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125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126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133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134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140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141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255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正方形/長方形 116"/>
          <p:cNvSpPr/>
          <p:nvPr/>
        </p:nvSpPr>
        <p:spPr>
          <a:xfrm>
            <a:off x="2360520" y="1509840"/>
            <a:ext cx="484200" cy="5181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269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270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16"/>
          <p:cNvSpPr/>
          <p:nvPr/>
        </p:nvSpPr>
        <p:spPr>
          <a:xfrm>
            <a:off x="2359080" y="1495440"/>
            <a:ext cx="48240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28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28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29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30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31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31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32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32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33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33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34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34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34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35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35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35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44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45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471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正方形/長方形 116"/>
          <p:cNvSpPr/>
          <p:nvPr/>
        </p:nvSpPr>
        <p:spPr>
          <a:xfrm>
            <a:off x="1795320" y="2138400"/>
            <a:ext cx="484200" cy="45259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485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486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正方形/長方形 16"/>
          <p:cNvSpPr/>
          <p:nvPr/>
        </p:nvSpPr>
        <p:spPr>
          <a:xfrm>
            <a:off x="1806480" y="216360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502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503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515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516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527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528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538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539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2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548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549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2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557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558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565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566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8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572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573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3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0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2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58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62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68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70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72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685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687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9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700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701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5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1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72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73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74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74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75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75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76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76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77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77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77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78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78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78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5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85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86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86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86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87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87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87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87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88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89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89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15T06:28:52Z</dcterms:modified>
  <cp:revision>56</cp:revision>
  <dc:subject/>
  <dc:title>スライド 1</dc:title>
</cp:coreProperties>
</file>