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BF1EA-54F9-4553-AC96-6B1D50D44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E6DD6-8126-4C1B-B2C1-9AAC9C190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4A877-A0DE-4D75-88E4-8149A57D6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6ADBE-0EC4-4257-B2CE-411B3808F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484AE-BB5C-4FCF-BA41-5DE8B71F4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EB743-8B3A-483B-9EF3-B41EFD1C5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7857F-13B2-43AF-BD69-9CCAD4C94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10F57-724C-4B03-9728-6E229CC43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BC773-5892-42E6-ABEB-3D7A25337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1C1B7-041C-4056-BCBF-A65C549F9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F6E4A-CFF6-476F-B0C3-09BD673EE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C49BB-8538-478D-BB66-25234FAEF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95D39-3B22-43FA-9717-3EDA2E8B7C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image" Target="../media/image17.png"/><Relationship Id="rId10" Type="http://schemas.openxmlformats.org/officeDocument/2006/relationships/image" Target="../media/image1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4572000" y="1333440"/>
          <a:ext cx="4321080" cy="4321080"/>
        </p:xfrm>
        <a:graphic>
          <a:graphicData uri="http://schemas.openxmlformats.org/drawingml/2006/table">
            <a:tbl>
              <a:tblPr/>
              <a:tblGrid>
                <a:gridCol w="216000"/>
                <a:gridCol w="215640"/>
                <a:gridCol w="216000"/>
                <a:gridCol w="216000"/>
                <a:gridCol w="217440"/>
                <a:gridCol w="216000"/>
                <a:gridCol w="215640"/>
                <a:gridCol w="216000"/>
                <a:gridCol w="216000"/>
                <a:gridCol w="216000"/>
                <a:gridCol w="215640"/>
                <a:gridCol w="216000"/>
                <a:gridCol w="216000"/>
                <a:gridCol w="216000"/>
                <a:gridCol w="217440"/>
                <a:gridCol w="215640"/>
                <a:gridCol w="216000"/>
                <a:gridCol w="216000"/>
                <a:gridCol w="216000"/>
                <a:gridCol w="215640"/>
              </a:tblGrid>
              <a:tr h="216000"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</a:tr>
              <a:tr h="216000"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</a:tr>
              <a:tr h="216000"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</a:tr>
              <a:tr h="217440"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</a:tr>
              <a:tr h="216000"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</a:tr>
              <a:tr h="216000"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</a:tr>
              <a:tr h="216000"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</a:tr>
              <a:tr h="216000"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</a:tr>
              <a:tr h="216000"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</a:tr>
              <a:tr h="216000"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</a:tr>
              <a:tr h="216000"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</a:tr>
              <a:tr h="217440"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</a:tr>
              <a:tr h="216000"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</a:tr>
              <a:tr h="216000"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</a:tr>
              <a:tr h="216000"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" name="円/楕円 2"/>
          <p:cNvSpPr/>
          <p:nvPr/>
        </p:nvSpPr>
        <p:spPr>
          <a:xfrm>
            <a:off x="4557600" y="1333440"/>
            <a:ext cx="4321440" cy="43210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直線コネクタ 2"/>
          <p:cNvSpPr/>
          <p:nvPr/>
        </p:nvSpPr>
        <p:spPr>
          <a:xfrm>
            <a:off x="4557600" y="3481560"/>
            <a:ext cx="2160720" cy="17280"/>
          </a:xfrm>
          <a:prstGeom prst="line">
            <a:avLst/>
          </a:prstGeom>
          <a:ln w="2844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円弧 46"/>
          <p:cNvSpPr/>
          <p:nvPr/>
        </p:nvSpPr>
        <p:spPr>
          <a:xfrm rot="16200000">
            <a:off x="5291280" y="2424240"/>
            <a:ext cx="714240" cy="2139840"/>
          </a:xfrm>
          <a:custGeom>
            <a:avLst/>
            <a:gdLst/>
            <a:ahLst/>
            <a:rect l="l" t="t" r="r" b="b"/>
            <a:pathLst>
              <a:path stroke="0" w="714375" h="2139950">
                <a:moveTo>
                  <a:pt x="357187" y="0"/>
                </a:moveTo>
                <a:cubicBezTo>
                  <a:pt x="554264" y="0"/>
                  <a:pt x="714102" y="478143"/>
                  <a:pt x="714375" y="1068495"/>
                </a:cubicBezTo>
                <a:cubicBezTo>
                  <a:pt x="714643" y="1649658"/>
                  <a:pt x="559999" y="2125201"/>
                  <a:pt x="366050" y="2139620"/>
                </a:cubicBezTo>
                <a:lnTo>
                  <a:pt x="357188" y="1069975"/>
                </a:lnTo>
                <a:cubicBezTo>
                  <a:pt x="357188" y="713317"/>
                  <a:pt x="357187" y="356658"/>
                  <a:pt x="357187" y="0"/>
                </a:cubicBezTo>
                <a:close/>
              </a:path>
              <a:path fill="none" w="714375" h="2139950">
                <a:moveTo>
                  <a:pt x="357187" y="0"/>
                </a:moveTo>
                <a:cubicBezTo>
                  <a:pt x="554264" y="0"/>
                  <a:pt x="714102" y="478143"/>
                  <a:pt x="714375" y="1068495"/>
                </a:cubicBezTo>
                <a:cubicBezTo>
                  <a:pt x="714643" y="1649658"/>
                  <a:pt x="559999" y="2125201"/>
                  <a:pt x="366050" y="2139620"/>
                </a:cubicBez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テキスト ボックス 47"/>
          <p:cNvSpPr/>
          <p:nvPr/>
        </p:nvSpPr>
        <p:spPr>
          <a:xfrm>
            <a:off x="5359320" y="2911320"/>
            <a:ext cx="720720" cy="36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0c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円/楕円 4"/>
          <p:cNvSpPr/>
          <p:nvPr/>
        </p:nvSpPr>
        <p:spPr>
          <a:xfrm>
            <a:off x="6713640" y="3478320"/>
            <a:ext cx="36360" cy="36360"/>
          </a:xfrm>
          <a:prstGeom prst="ellipse">
            <a:avLst/>
          </a:prstGeom>
          <a:solidFill>
            <a:srgbClr val="000000">
              <a:alpha val="7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0520" bIns="-2052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6" descr=""/>
          <p:cNvPicPr/>
          <p:nvPr/>
        </p:nvPicPr>
        <p:blipFill>
          <a:blip r:embed="rId1"/>
          <a:stretch/>
        </p:blipFill>
        <p:spPr>
          <a:xfrm>
            <a:off x="179280" y="0"/>
            <a:ext cx="1011240" cy="1413000"/>
          </a:xfrm>
          <a:prstGeom prst="rect">
            <a:avLst/>
          </a:prstGeom>
          <a:ln w="0">
            <a:noFill/>
          </a:ln>
        </p:spPr>
      </p:pic>
      <p:sp>
        <p:nvSpPr>
          <p:cNvPr id="48" name="AutoShape 7"/>
          <p:cNvSpPr/>
          <p:nvPr/>
        </p:nvSpPr>
        <p:spPr>
          <a:xfrm>
            <a:off x="1190520" y="193680"/>
            <a:ext cx="4889520" cy="549360"/>
          </a:xfrm>
          <a:prstGeom prst="wedgeRoundRectCallout">
            <a:avLst>
              <a:gd name="adj1" fmla="val -51953"/>
              <a:gd name="adj2" fmla="val 42500"/>
              <a:gd name="adj3" fmla="val 16667"/>
            </a:avLst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円の面積の求め方を考えよう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角丸四角形吹き出し 5"/>
          <p:cNvSpPr/>
          <p:nvPr/>
        </p:nvSpPr>
        <p:spPr>
          <a:xfrm>
            <a:off x="612720" y="1681200"/>
            <a:ext cx="3384720" cy="733320"/>
          </a:xfrm>
          <a:prstGeom prst="wedgeRoundRectCallout">
            <a:avLst>
              <a:gd name="adj1" fmla="val -56000"/>
              <a:gd name="adj2" fmla="val 34800"/>
              <a:gd name="adj3" fmla="val 16667"/>
            </a:avLst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直線でかこまれた図形をもとに･･･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角丸四角形吹き出し 52"/>
          <p:cNvSpPr/>
          <p:nvPr/>
        </p:nvSpPr>
        <p:spPr>
          <a:xfrm>
            <a:off x="601560" y="3159000"/>
            <a:ext cx="3384720" cy="1751040"/>
          </a:xfrm>
          <a:prstGeom prst="wedgeRoundRectCallout">
            <a:avLst>
              <a:gd name="adj1" fmla="val -56000"/>
              <a:gd name="adj2" fmla="val 34800"/>
              <a:gd name="adj3" fmla="val 16667"/>
            </a:avLst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円の大きさは半径の長さで決まるから、面積も半径の長さに関係がありそう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6" descr=""/>
          <p:cNvPicPr/>
          <p:nvPr/>
        </p:nvPicPr>
        <p:blipFill>
          <a:blip r:embed="rId1"/>
          <a:stretch/>
        </p:blipFill>
        <p:spPr>
          <a:xfrm>
            <a:off x="179280" y="0"/>
            <a:ext cx="1011240" cy="1413000"/>
          </a:xfrm>
          <a:prstGeom prst="rect">
            <a:avLst/>
          </a:prstGeom>
          <a:ln w="0">
            <a:noFill/>
          </a:ln>
        </p:spPr>
      </p:pic>
      <p:sp>
        <p:nvSpPr>
          <p:cNvPr id="52" name="AutoShape 7"/>
          <p:cNvSpPr/>
          <p:nvPr/>
        </p:nvSpPr>
        <p:spPr>
          <a:xfrm>
            <a:off x="1190520" y="193680"/>
            <a:ext cx="7774200" cy="1506600"/>
          </a:xfrm>
          <a:prstGeom prst="wedgeRoundRectCallout">
            <a:avLst>
              <a:gd name="adj1" fmla="val -51208"/>
              <a:gd name="adj2" fmla="val 19388"/>
              <a:gd name="adj3" fmla="val 16667"/>
            </a:avLst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まず、半径１０ｃｍの円の面積の見当をつけます。１辺１０ｃｍの正方形の面積のおよそ何倍になるか考えましょう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円/楕円 2"/>
          <p:cNvSpPr/>
          <p:nvPr/>
        </p:nvSpPr>
        <p:spPr>
          <a:xfrm>
            <a:off x="878040" y="1990800"/>
            <a:ext cx="2160360" cy="2160360"/>
          </a:xfrm>
          <a:prstGeom prst="ellipse">
            <a:avLst/>
          </a:prstGeom>
          <a:solidFill>
            <a:srgbClr val="c4f3f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円/楕円 2"/>
          <p:cNvSpPr/>
          <p:nvPr/>
        </p:nvSpPr>
        <p:spPr>
          <a:xfrm>
            <a:off x="3708360" y="1990800"/>
            <a:ext cx="2158920" cy="21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878040" y="1990800"/>
          <a:ext cx="1079280" cy="1079280"/>
        </p:xfrm>
        <a:graphic>
          <a:graphicData uri="http://schemas.openxmlformats.org/drawingml/2006/table">
            <a:tbl>
              <a:tblPr/>
              <a:tblGrid>
                <a:gridCol w="1079280"/>
              </a:tblGrid>
              <a:tr h="1079280">
                <a:tc>
                  <a:txBody>
                    <a:bodyPr lIns="113760" rIns="11376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760" marR="113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>
                        <a:alpha val="7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56" name="直角三角形 8"/>
          <p:cNvSpPr/>
          <p:nvPr/>
        </p:nvSpPr>
        <p:spPr>
          <a:xfrm>
            <a:off x="4788000" y="2000160"/>
            <a:ext cx="1079280" cy="1079640"/>
          </a:xfrm>
          <a:prstGeom prst="rtTriangle">
            <a:avLst/>
          </a:prstGeom>
          <a:solidFill>
            <a:srgbClr val="afffff">
              <a:alpha val="70000"/>
            </a:srgbClr>
          </a:solidFill>
          <a:ln w="1908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直角三角形 10"/>
          <p:cNvSpPr/>
          <p:nvPr/>
        </p:nvSpPr>
        <p:spPr>
          <a:xfrm rot="16200000">
            <a:off x="3707640" y="1997280"/>
            <a:ext cx="1081080" cy="1079640"/>
          </a:xfrm>
          <a:prstGeom prst="rtTriangle">
            <a:avLst/>
          </a:prstGeom>
          <a:solidFill>
            <a:srgbClr val="afffff">
              <a:alpha val="70000"/>
            </a:srgbClr>
          </a:solidFill>
          <a:ln w="1908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8" name="グループ化 13"/>
          <p:cNvGrpSpPr/>
          <p:nvPr/>
        </p:nvGrpSpPr>
        <p:grpSpPr>
          <a:xfrm>
            <a:off x="4787640" y="1996920"/>
            <a:ext cx="2166840" cy="2157480"/>
            <a:chOff x="4787640" y="1996920"/>
            <a:chExt cx="2166840" cy="2157480"/>
          </a:xfrm>
        </p:grpSpPr>
        <p:sp>
          <p:nvSpPr>
            <p:cNvPr id="59" name="直角三角形 9"/>
            <p:cNvSpPr/>
            <p:nvPr/>
          </p:nvSpPr>
          <p:spPr>
            <a:xfrm rot="5400000">
              <a:off x="4788000" y="3074400"/>
              <a:ext cx="1079640" cy="1080360"/>
            </a:xfrm>
            <a:prstGeom prst="rtTriangle">
              <a:avLst/>
            </a:prstGeom>
            <a:solidFill>
              <a:srgbClr val="afffff">
                <a:alpha val="70000"/>
              </a:srgbClr>
            </a:solidFill>
            <a:ln w="19080">
              <a:solidFill>
                <a:srgbClr val="007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" name="直角三角形 12"/>
            <p:cNvSpPr/>
            <p:nvPr/>
          </p:nvSpPr>
          <p:spPr>
            <a:xfrm rot="5400000">
              <a:off x="5874480" y="1996560"/>
              <a:ext cx="1079640" cy="1080360"/>
            </a:xfrm>
            <a:prstGeom prst="rtTriangl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1" name="グループ化 15"/>
          <p:cNvGrpSpPr/>
          <p:nvPr/>
        </p:nvGrpSpPr>
        <p:grpSpPr>
          <a:xfrm>
            <a:off x="2624040" y="1998360"/>
            <a:ext cx="2163960" cy="2158920"/>
            <a:chOff x="2624040" y="1998360"/>
            <a:chExt cx="2163960" cy="2158920"/>
          </a:xfrm>
        </p:grpSpPr>
        <p:sp>
          <p:nvSpPr>
            <p:cNvPr id="62" name="直角三角形 11"/>
            <p:cNvSpPr/>
            <p:nvPr/>
          </p:nvSpPr>
          <p:spPr>
            <a:xfrm rot="10800000">
              <a:off x="3708000" y="3077640"/>
              <a:ext cx="1080000" cy="1079640"/>
            </a:xfrm>
            <a:prstGeom prst="rtTriangle">
              <a:avLst/>
            </a:prstGeom>
            <a:solidFill>
              <a:srgbClr val="afffff">
                <a:alpha val="70000"/>
              </a:srgbClr>
            </a:solidFill>
            <a:ln w="19080">
              <a:solidFill>
                <a:srgbClr val="007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直角三角形 14"/>
            <p:cNvSpPr/>
            <p:nvPr/>
          </p:nvSpPr>
          <p:spPr>
            <a:xfrm rot="10800000">
              <a:off x="2624040" y="1998360"/>
              <a:ext cx="1080000" cy="1079640"/>
            </a:xfrm>
            <a:prstGeom prst="rtTriangl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aphicFrame>
        <p:nvGraphicFramePr>
          <p:cNvPr id="64" name=""/>
          <p:cNvGraphicFramePr/>
          <p:nvPr/>
        </p:nvGraphicFramePr>
        <p:xfrm>
          <a:off x="6510240" y="1990800"/>
          <a:ext cx="1079640" cy="1079280"/>
        </p:xfrm>
        <a:graphic>
          <a:graphicData uri="http://schemas.openxmlformats.org/drawingml/2006/table">
            <a:tbl>
              <a:tblPr/>
              <a:tblGrid>
                <a:gridCol w="1079640"/>
              </a:tblGrid>
              <a:tr h="1079280">
                <a:tc>
                  <a:txBody>
                    <a:bodyPr lIns="113760" rIns="11376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760" marR="11376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c7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5" name=""/>
          <p:cNvGraphicFramePr/>
          <p:nvPr/>
        </p:nvGraphicFramePr>
        <p:xfrm>
          <a:off x="7589880" y="1990800"/>
          <a:ext cx="1079280" cy="1079280"/>
        </p:xfrm>
        <a:graphic>
          <a:graphicData uri="http://schemas.openxmlformats.org/drawingml/2006/table">
            <a:tbl>
              <a:tblPr/>
              <a:tblGrid>
                <a:gridCol w="1079280"/>
              </a:tblGrid>
              <a:tr h="1079280">
                <a:tc>
                  <a:txBody>
                    <a:bodyPr lIns="113760" rIns="11376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760" marR="11376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c7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6" name=""/>
          <p:cNvGraphicFramePr/>
          <p:nvPr/>
        </p:nvGraphicFramePr>
        <p:xfrm>
          <a:off x="6510240" y="3071880"/>
          <a:ext cx="1079640" cy="1079280"/>
        </p:xfrm>
        <a:graphic>
          <a:graphicData uri="http://schemas.openxmlformats.org/drawingml/2006/table">
            <a:tbl>
              <a:tblPr/>
              <a:tblGrid>
                <a:gridCol w="1079640"/>
              </a:tblGrid>
              <a:tr h="1079280">
                <a:tc>
                  <a:txBody>
                    <a:bodyPr lIns="113760" rIns="11376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760" marR="11376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c7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7" name=""/>
          <p:cNvGraphicFramePr/>
          <p:nvPr/>
        </p:nvGraphicFramePr>
        <p:xfrm>
          <a:off x="7589880" y="3078000"/>
          <a:ext cx="1079280" cy="1079640"/>
        </p:xfrm>
        <a:graphic>
          <a:graphicData uri="http://schemas.openxmlformats.org/drawingml/2006/table">
            <a:tbl>
              <a:tblPr/>
              <a:tblGrid>
                <a:gridCol w="1079280"/>
              </a:tblGrid>
              <a:tr h="1079640">
                <a:tc>
                  <a:txBody>
                    <a:bodyPr lIns="113760" rIns="11376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760" marR="11376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c7ffff"/>
                    </a:solidFill>
                  </a:tcPr>
                </a:tc>
              </a:tr>
            </a:tbl>
          </a:graphicData>
        </a:graphic>
      </p:graphicFrame>
      <p:sp>
        <p:nvSpPr>
          <p:cNvPr id="68" name="円/楕円 2"/>
          <p:cNvSpPr/>
          <p:nvPr/>
        </p:nvSpPr>
        <p:spPr>
          <a:xfrm>
            <a:off x="6510240" y="1990800"/>
            <a:ext cx="2158920" cy="21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円弧 20"/>
          <p:cNvSpPr/>
          <p:nvPr/>
        </p:nvSpPr>
        <p:spPr>
          <a:xfrm flipH="1" rot="16200000">
            <a:off x="1284480" y="2528640"/>
            <a:ext cx="244800" cy="1079640"/>
          </a:xfrm>
          <a:custGeom>
            <a:avLst/>
            <a:gdLst/>
            <a:ahLst/>
            <a:rect l="l" t="t" r="r" b="b"/>
            <a:pathLst>
              <a:path stroke="0" w="244475" h="1079500">
                <a:moveTo>
                  <a:pt x="122237" y="0"/>
                </a:moveTo>
                <a:cubicBezTo>
                  <a:pt x="189702" y="0"/>
                  <a:pt x="244412" y="241346"/>
                  <a:pt x="244475" y="539244"/>
                </a:cubicBezTo>
                <a:cubicBezTo>
                  <a:pt x="244537" y="829857"/>
                  <a:pt x="192478" y="1068515"/>
                  <a:pt x="126706" y="1079140"/>
                </a:cubicBezTo>
                <a:cubicBezTo>
                  <a:pt x="125217" y="899343"/>
                  <a:pt x="123727" y="719547"/>
                  <a:pt x="122238" y="539750"/>
                </a:cubicBezTo>
                <a:cubicBezTo>
                  <a:pt x="122238" y="359833"/>
                  <a:pt x="122237" y="179917"/>
                  <a:pt x="122237" y="0"/>
                </a:cubicBezTo>
                <a:close/>
              </a:path>
              <a:path fill="none" w="244475" h="1079500">
                <a:moveTo>
                  <a:pt x="122237" y="0"/>
                </a:moveTo>
                <a:cubicBezTo>
                  <a:pt x="189702" y="0"/>
                  <a:pt x="244412" y="241346"/>
                  <a:pt x="244475" y="539244"/>
                </a:cubicBezTo>
                <a:cubicBezTo>
                  <a:pt x="244537" y="829857"/>
                  <a:pt x="192478" y="1068515"/>
                  <a:pt x="126706" y="1079140"/>
                </a:cubicBez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テキスト ボックス 21"/>
          <p:cNvSpPr/>
          <p:nvPr/>
        </p:nvSpPr>
        <p:spPr>
          <a:xfrm>
            <a:off x="1125360" y="3095640"/>
            <a:ext cx="565200" cy="274680"/>
          </a:xfrm>
          <a:prstGeom prst="rect">
            <a:avLst/>
          </a:prstGeom>
          <a:solidFill>
            <a:srgbClr val="c4f3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0c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円弧 22"/>
          <p:cNvSpPr/>
          <p:nvPr/>
        </p:nvSpPr>
        <p:spPr>
          <a:xfrm flipH="1">
            <a:off x="742320" y="1989000"/>
            <a:ext cx="244440" cy="1079640"/>
          </a:xfrm>
          <a:custGeom>
            <a:avLst/>
            <a:gdLst/>
            <a:ahLst/>
            <a:rect l="l" t="t" r="r" b="b"/>
            <a:pathLst>
              <a:path stroke="0" w="244475" h="1079500">
                <a:moveTo>
                  <a:pt x="122237" y="0"/>
                </a:moveTo>
                <a:cubicBezTo>
                  <a:pt x="189702" y="0"/>
                  <a:pt x="244412" y="241346"/>
                  <a:pt x="244475" y="539244"/>
                </a:cubicBezTo>
                <a:cubicBezTo>
                  <a:pt x="244537" y="829857"/>
                  <a:pt x="192478" y="1068515"/>
                  <a:pt x="126706" y="1079140"/>
                </a:cubicBezTo>
                <a:cubicBezTo>
                  <a:pt x="125217" y="899343"/>
                  <a:pt x="123727" y="719547"/>
                  <a:pt x="122238" y="539750"/>
                </a:cubicBezTo>
                <a:cubicBezTo>
                  <a:pt x="122238" y="359833"/>
                  <a:pt x="122237" y="179917"/>
                  <a:pt x="122237" y="0"/>
                </a:cubicBezTo>
                <a:close/>
              </a:path>
              <a:path fill="none" w="244475" h="1079500">
                <a:moveTo>
                  <a:pt x="122237" y="0"/>
                </a:moveTo>
                <a:cubicBezTo>
                  <a:pt x="189702" y="0"/>
                  <a:pt x="244412" y="241346"/>
                  <a:pt x="244475" y="539244"/>
                </a:cubicBezTo>
                <a:cubicBezTo>
                  <a:pt x="244537" y="829857"/>
                  <a:pt x="192478" y="1068515"/>
                  <a:pt x="126706" y="1079140"/>
                </a:cubicBez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テキスト ボックス 23"/>
          <p:cNvSpPr/>
          <p:nvPr/>
        </p:nvSpPr>
        <p:spPr>
          <a:xfrm>
            <a:off x="272880" y="2397240"/>
            <a:ext cx="56700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0c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3332160" y="4365720"/>
          <a:ext cx="717480" cy="717480"/>
        </p:xfrm>
        <a:graphic>
          <a:graphicData uri="http://schemas.openxmlformats.org/drawingml/2006/table">
            <a:tbl>
              <a:tblPr/>
              <a:tblGrid>
                <a:gridCol w="717480"/>
              </a:tblGrid>
              <a:tr h="717480">
                <a:tc>
                  <a:txBody>
                    <a:bodyPr lIns="75600" rIns="75600" tIns="37440" bIns="37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5600" marR="7560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c7ffff"/>
                    </a:solidFill>
                  </a:tcPr>
                </a:tc>
              </a:tr>
            </a:tbl>
          </a:graphicData>
        </a:graphic>
      </p:graphicFrame>
      <p:sp>
        <p:nvSpPr>
          <p:cNvPr id="74" name="テキスト ボックス 26"/>
          <p:cNvSpPr/>
          <p:nvPr/>
        </p:nvSpPr>
        <p:spPr>
          <a:xfrm>
            <a:off x="4067280" y="4616280"/>
            <a:ext cx="201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の２倍より大きい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テキスト ボックス 27"/>
          <p:cNvSpPr/>
          <p:nvPr/>
        </p:nvSpPr>
        <p:spPr>
          <a:xfrm>
            <a:off x="1047600" y="4635360"/>
            <a:ext cx="18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円の面積は、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6211800" y="4379760"/>
          <a:ext cx="719280" cy="717840"/>
        </p:xfrm>
        <a:graphic>
          <a:graphicData uri="http://schemas.openxmlformats.org/drawingml/2006/table">
            <a:tbl>
              <a:tblPr/>
              <a:tblGrid>
                <a:gridCol w="719280"/>
              </a:tblGrid>
              <a:tr h="717840">
                <a:tc>
                  <a:txBody>
                    <a:bodyPr lIns="75600" rIns="75600" tIns="37440" bIns="37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5600" marR="7560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c7ffff"/>
                    </a:solidFill>
                  </a:tcPr>
                </a:tc>
              </a:tr>
            </a:tbl>
          </a:graphicData>
        </a:graphic>
      </p:graphicFrame>
      <p:sp>
        <p:nvSpPr>
          <p:cNvPr id="77" name="テキスト ボックス 29"/>
          <p:cNvSpPr/>
          <p:nvPr/>
        </p:nvSpPr>
        <p:spPr>
          <a:xfrm>
            <a:off x="6948360" y="4630680"/>
            <a:ext cx="20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の４倍より小さい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6200000">
                                      <p:cBhvr>
                                        <p:cTn id="49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1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16200000">
                                      <p:cBhvr>
                                        <p:cTn id="52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"/>
          <p:cNvGraphicFramePr/>
          <p:nvPr/>
        </p:nvGraphicFramePr>
        <p:xfrm>
          <a:off x="6804000" y="189000"/>
          <a:ext cx="1440000" cy="1439640"/>
        </p:xfrm>
        <a:graphic>
          <a:graphicData uri="http://schemas.openxmlformats.org/drawingml/2006/table">
            <a:tbl>
              <a:tblPr/>
              <a:tblGrid>
                <a:gridCol w="81360"/>
                <a:gridCol w="81360"/>
                <a:gridCol w="81360"/>
                <a:gridCol w="81360"/>
                <a:gridCol w="81360"/>
                <a:gridCol w="81360"/>
                <a:gridCol w="81360"/>
                <a:gridCol w="81360"/>
                <a:gridCol w="81360"/>
                <a:gridCol w="81360"/>
                <a:gridCol w="81360"/>
                <a:gridCol w="81360"/>
                <a:gridCol w="81360"/>
                <a:gridCol w="81360"/>
                <a:gridCol w="81360"/>
                <a:gridCol w="81360"/>
                <a:gridCol w="81360"/>
                <a:gridCol w="81360"/>
                <a:gridCol w="81360"/>
                <a:gridCol w="81360"/>
              </a:tblGrid>
              <a:tr h="71280"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</a:tr>
              <a:tr h="73080"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</a:tr>
              <a:tr h="71280"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</a:tr>
              <a:tr h="71640"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</a:tr>
              <a:tr h="73080"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</a:tr>
              <a:tr h="71280"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</a:tr>
              <a:tr h="71640"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</a:tr>
              <a:tr h="72720"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</a:tr>
              <a:tr h="71640"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</a:tr>
              <a:tr h="71280"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</a:tr>
              <a:tr h="73080"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</a:tr>
              <a:tr h="71640"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</a:tr>
              <a:tr h="72720"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</a:tr>
              <a:tr h="71640"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</a:tr>
              <a:tr h="71280"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</a:tr>
              <a:tr h="73080"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</a:tr>
              <a:tr h="71640"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</a:tr>
              <a:tr h="71280"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</a:tr>
              <a:tr h="73080"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</a:tr>
              <a:tr h="71280"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9" name="円/楕円 2"/>
          <p:cNvSpPr/>
          <p:nvPr/>
        </p:nvSpPr>
        <p:spPr>
          <a:xfrm>
            <a:off x="6789600" y="189000"/>
            <a:ext cx="1440000" cy="14396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0" name="グループ化 8"/>
          <p:cNvGrpSpPr/>
          <p:nvPr/>
        </p:nvGrpSpPr>
        <p:grpSpPr>
          <a:xfrm>
            <a:off x="6797520" y="188640"/>
            <a:ext cx="1440000" cy="1440000"/>
            <a:chOff x="6797520" y="188640"/>
            <a:chExt cx="1440000" cy="1440000"/>
          </a:xfrm>
        </p:grpSpPr>
        <p:sp>
          <p:nvSpPr>
            <p:cNvPr id="81" name="円弧 3"/>
            <p:cNvSpPr/>
            <p:nvPr/>
          </p:nvSpPr>
          <p:spPr>
            <a:xfrm rot="10800000">
              <a:off x="6797520" y="188280"/>
              <a:ext cx="1440000" cy="1439640"/>
            </a:xfrm>
            <a:custGeom>
              <a:avLst/>
              <a:gdLst/>
              <a:ahLst/>
              <a:rect l="l" t="t" r="r" b="b"/>
              <a:pathLst>
                <a:path stroke="0" w="1440000" h="1440001">
                  <a:moveTo>
                    <a:pt x="720000" y="0"/>
                  </a:moveTo>
                  <a:cubicBezTo>
                    <a:pt x="1117645" y="0"/>
                    <a:pt x="1440000" y="322355"/>
                    <a:pt x="1440000" y="720001"/>
                  </a:cubicBezTo>
                  <a:lnTo>
                    <a:pt x="720000" y="720001"/>
                  </a:lnTo>
                  <a:lnTo>
                    <a:pt x="720000" y="0"/>
                  </a:lnTo>
                  <a:close/>
                </a:path>
                <a:path fill="none" w="1440000" h="1440001">
                  <a:moveTo>
                    <a:pt x="720000" y="0"/>
                  </a:moveTo>
                  <a:cubicBezTo>
                    <a:pt x="1117645" y="0"/>
                    <a:pt x="1440000" y="322355"/>
                    <a:pt x="1440000" y="720001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直線コネクタ 5"/>
            <p:cNvSpPr/>
            <p:nvPr/>
          </p:nvSpPr>
          <p:spPr>
            <a:xfrm>
              <a:off x="6797520" y="908640"/>
              <a:ext cx="720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直線コネクタ 7"/>
            <p:cNvSpPr/>
            <p:nvPr/>
          </p:nvSpPr>
          <p:spPr>
            <a:xfrm>
              <a:off x="7517520" y="909000"/>
              <a:ext cx="0" cy="719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aphicFrame>
        <p:nvGraphicFramePr>
          <p:cNvPr id="84" name=""/>
          <p:cNvGraphicFramePr/>
          <p:nvPr/>
        </p:nvGraphicFramePr>
        <p:xfrm>
          <a:off x="158760" y="1476360"/>
          <a:ext cx="4319640" cy="4319640"/>
        </p:xfrm>
        <a:graphic>
          <a:graphicData uri="http://schemas.openxmlformats.org/drawingml/2006/table">
            <a:tbl>
              <a:tblPr/>
              <a:tblGrid>
                <a:gridCol w="431640"/>
                <a:gridCol w="432000"/>
                <a:gridCol w="431640"/>
                <a:gridCol w="432000"/>
                <a:gridCol w="433440"/>
                <a:gridCol w="431640"/>
                <a:gridCol w="431640"/>
                <a:gridCol w="432000"/>
                <a:gridCol w="431640"/>
                <a:gridCol w="432000"/>
              </a:tblGrid>
              <a:tr h="431640"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432000"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431640"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432000"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433440"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431640"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432000"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431640"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431640"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432000"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</a:tr>
            </a:tbl>
          </a:graphicData>
        </a:graphic>
      </p:graphicFrame>
      <p:sp>
        <p:nvSpPr>
          <p:cNvPr id="85" name="円弧 51"/>
          <p:cNvSpPr/>
          <p:nvPr/>
        </p:nvSpPr>
        <p:spPr>
          <a:xfrm rot="10800000">
            <a:off x="158760" y="-2857680"/>
            <a:ext cx="8640720" cy="8639280"/>
          </a:xfrm>
          <a:custGeom>
            <a:avLst/>
            <a:gdLst/>
            <a:ahLst/>
            <a:rect l="l" t="t" r="r" b="b"/>
            <a:pathLst>
              <a:path stroke="0" w="8640763" h="8639175">
                <a:moveTo>
                  <a:pt x="4320381" y="0"/>
                </a:moveTo>
                <a:cubicBezTo>
                  <a:pt x="6706462" y="0"/>
                  <a:pt x="8640763" y="1933945"/>
                  <a:pt x="8640763" y="4319588"/>
                </a:cubicBezTo>
                <a:lnTo>
                  <a:pt x="4320382" y="4319588"/>
                </a:lnTo>
                <a:cubicBezTo>
                  <a:pt x="4320382" y="2879725"/>
                  <a:pt x="4320381" y="1439863"/>
                  <a:pt x="4320381" y="0"/>
                </a:cubicBezTo>
                <a:close/>
              </a:path>
              <a:path fill="none" w="8640763" h="8639175">
                <a:moveTo>
                  <a:pt x="4320381" y="0"/>
                </a:moveTo>
                <a:cubicBezTo>
                  <a:pt x="6706462" y="0"/>
                  <a:pt x="8640763" y="1933945"/>
                  <a:pt x="8640763" y="4319588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直線コネクタ 53"/>
          <p:cNvSpPr/>
          <p:nvPr/>
        </p:nvSpPr>
        <p:spPr>
          <a:xfrm>
            <a:off x="169920" y="1476360"/>
            <a:ext cx="4319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直線コネクタ 54"/>
          <p:cNvSpPr/>
          <p:nvPr/>
        </p:nvSpPr>
        <p:spPr>
          <a:xfrm>
            <a:off x="4486320" y="1457280"/>
            <a:ext cx="0" cy="4319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859280" y="1865160"/>
          <a:ext cx="433440" cy="432000"/>
        </p:xfrm>
        <a:graphic>
          <a:graphicData uri="http://schemas.openxmlformats.org/drawingml/2006/table">
            <a:tbl>
              <a:tblPr/>
              <a:tblGrid>
                <a:gridCol w="433440"/>
              </a:tblGrid>
              <a:tr h="432000">
                <a:tc>
                  <a:txBody>
                    <a:bodyPr lIns="113760" rIns="11376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760" marR="11376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89" name=""/>
          <p:cNvGraphicFramePr/>
          <p:nvPr/>
        </p:nvGraphicFramePr>
        <p:xfrm>
          <a:off x="4859280" y="2801880"/>
          <a:ext cx="433440" cy="432000"/>
        </p:xfrm>
        <a:graphic>
          <a:graphicData uri="http://schemas.openxmlformats.org/drawingml/2006/table">
            <a:tbl>
              <a:tblPr/>
              <a:tblGrid>
                <a:gridCol w="433440"/>
              </a:tblGrid>
              <a:tr h="432000">
                <a:tc>
                  <a:txBody>
                    <a:bodyPr lIns="113760" rIns="11376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760" marR="11376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</a:tr>
            </a:tbl>
          </a:graphicData>
        </a:graphic>
      </p:graphicFrame>
      <p:sp>
        <p:nvSpPr>
          <p:cNvPr id="90" name="テキスト ボックス 11"/>
          <p:cNvSpPr/>
          <p:nvPr/>
        </p:nvSpPr>
        <p:spPr>
          <a:xfrm>
            <a:off x="5364000" y="1865160"/>
            <a:ext cx="11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の数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テキスト ボックス 57"/>
          <p:cNvSpPr/>
          <p:nvPr/>
        </p:nvSpPr>
        <p:spPr>
          <a:xfrm>
            <a:off x="5365800" y="2786040"/>
            <a:ext cx="11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の数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正方形/長方形 12"/>
          <p:cNvSpPr/>
          <p:nvPr/>
        </p:nvSpPr>
        <p:spPr>
          <a:xfrm>
            <a:off x="6448320" y="1865160"/>
            <a:ext cx="792360" cy="462240"/>
          </a:xfrm>
          <a:prstGeom prst="rect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正方形/長方形 58"/>
          <p:cNvSpPr/>
          <p:nvPr/>
        </p:nvSpPr>
        <p:spPr>
          <a:xfrm>
            <a:off x="6448320" y="2786040"/>
            <a:ext cx="792360" cy="461880"/>
          </a:xfrm>
          <a:prstGeom prst="rect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テキスト ボックス 61"/>
          <p:cNvSpPr/>
          <p:nvPr/>
        </p:nvSpPr>
        <p:spPr>
          <a:xfrm>
            <a:off x="7332840" y="1865160"/>
            <a:ext cx="47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テキスト ボックス 62"/>
          <p:cNvSpPr/>
          <p:nvPr/>
        </p:nvSpPr>
        <p:spPr>
          <a:xfrm>
            <a:off x="7332840" y="2786040"/>
            <a:ext cx="47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正方形/長方形 63"/>
          <p:cNvSpPr/>
          <p:nvPr/>
        </p:nvSpPr>
        <p:spPr>
          <a:xfrm>
            <a:off x="7812000" y="1859040"/>
            <a:ext cx="792360" cy="461880"/>
          </a:xfrm>
          <a:prstGeom prst="rect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テキスト ボックス 64"/>
          <p:cNvSpPr/>
          <p:nvPr/>
        </p:nvSpPr>
        <p:spPr>
          <a:xfrm>
            <a:off x="8601120" y="1865160"/>
            <a:ext cx="47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正方形/長方形 66"/>
          <p:cNvSpPr/>
          <p:nvPr/>
        </p:nvSpPr>
        <p:spPr>
          <a:xfrm>
            <a:off x="7804080" y="2795760"/>
            <a:ext cx="792360" cy="460080"/>
          </a:xfrm>
          <a:prstGeom prst="rect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テキスト ボックス 67"/>
          <p:cNvSpPr/>
          <p:nvPr/>
        </p:nvSpPr>
        <p:spPr>
          <a:xfrm>
            <a:off x="8593200" y="2801880"/>
            <a:ext cx="47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テキスト ボックス 68"/>
          <p:cNvSpPr/>
          <p:nvPr/>
        </p:nvSpPr>
        <p:spPr>
          <a:xfrm>
            <a:off x="4764240" y="3279600"/>
            <a:ext cx="347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この面積は半分と考え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正方形/長方形 69"/>
          <p:cNvSpPr/>
          <p:nvPr/>
        </p:nvSpPr>
        <p:spPr>
          <a:xfrm>
            <a:off x="7800840" y="3772080"/>
            <a:ext cx="792360" cy="461880"/>
          </a:xfrm>
          <a:prstGeom prst="rect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テキスト ボックス 70"/>
          <p:cNvSpPr/>
          <p:nvPr/>
        </p:nvSpPr>
        <p:spPr>
          <a:xfrm>
            <a:off x="8589960" y="3778200"/>
            <a:ext cx="47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テキスト ボックス 71"/>
          <p:cNvSpPr/>
          <p:nvPr/>
        </p:nvSpPr>
        <p:spPr>
          <a:xfrm>
            <a:off x="4780080" y="5140440"/>
            <a:ext cx="173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円の面積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正方形/長方形 72"/>
          <p:cNvSpPr/>
          <p:nvPr/>
        </p:nvSpPr>
        <p:spPr>
          <a:xfrm>
            <a:off x="6469200" y="5116680"/>
            <a:ext cx="792000" cy="461880"/>
          </a:xfrm>
          <a:prstGeom prst="rect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テキスト ボックス 73"/>
          <p:cNvSpPr/>
          <p:nvPr/>
        </p:nvSpPr>
        <p:spPr>
          <a:xfrm>
            <a:off x="7332840" y="5140440"/>
            <a:ext cx="105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×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４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正方形/長方形 74"/>
          <p:cNvSpPr/>
          <p:nvPr/>
        </p:nvSpPr>
        <p:spPr>
          <a:xfrm>
            <a:off x="8286840" y="5116680"/>
            <a:ext cx="792000" cy="461880"/>
          </a:xfrm>
          <a:prstGeom prst="rect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テキスト ボックス 75"/>
          <p:cNvSpPr/>
          <p:nvPr/>
        </p:nvSpPr>
        <p:spPr>
          <a:xfrm>
            <a:off x="5052960" y="5938920"/>
            <a:ext cx="88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答え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テキスト ボックス 76"/>
          <p:cNvSpPr/>
          <p:nvPr/>
        </p:nvSpPr>
        <p:spPr>
          <a:xfrm>
            <a:off x="5923080" y="5938920"/>
            <a:ext cx="47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約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正方形/長方形 77"/>
          <p:cNvSpPr/>
          <p:nvPr/>
        </p:nvSpPr>
        <p:spPr>
          <a:xfrm>
            <a:off x="6451560" y="5907240"/>
            <a:ext cx="792360" cy="460080"/>
          </a:xfrm>
          <a:prstGeom prst="rect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テキスト ボックス 78"/>
          <p:cNvSpPr/>
          <p:nvPr/>
        </p:nvSpPr>
        <p:spPr>
          <a:xfrm>
            <a:off x="7240680" y="5911920"/>
            <a:ext cx="47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直線コネクタ 14"/>
          <p:cNvSpPr/>
          <p:nvPr/>
        </p:nvSpPr>
        <p:spPr>
          <a:xfrm>
            <a:off x="5052960" y="6434280"/>
            <a:ext cx="2747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右矢印 15"/>
          <p:cNvSpPr/>
          <p:nvPr/>
        </p:nvSpPr>
        <p:spPr>
          <a:xfrm rot="10182600">
            <a:off x="4621320" y="1003320"/>
            <a:ext cx="2014560" cy="341280"/>
          </a:xfrm>
          <a:prstGeom prst="rightArrow">
            <a:avLst>
              <a:gd name="adj1" fmla="val 50000"/>
              <a:gd name="adj2" fmla="val 50202"/>
            </a:avLst>
          </a:prstGeom>
          <a:solidFill>
            <a:srgbClr val="afffff">
              <a:alpha val="70000"/>
            </a:srgbClr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テキスト ボックス 79"/>
          <p:cNvSpPr/>
          <p:nvPr/>
        </p:nvSpPr>
        <p:spPr>
          <a:xfrm>
            <a:off x="6634080" y="1865160"/>
            <a:ext cx="70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６９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テキスト ボックス 80"/>
          <p:cNvSpPr/>
          <p:nvPr/>
        </p:nvSpPr>
        <p:spPr>
          <a:xfrm>
            <a:off x="7972560" y="1844640"/>
            <a:ext cx="70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６９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テキスト ボックス 81"/>
          <p:cNvSpPr/>
          <p:nvPr/>
        </p:nvSpPr>
        <p:spPr>
          <a:xfrm>
            <a:off x="6615000" y="2801880"/>
            <a:ext cx="70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１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テキスト ボックス 82"/>
          <p:cNvSpPr/>
          <p:nvPr/>
        </p:nvSpPr>
        <p:spPr>
          <a:xfrm>
            <a:off x="7985160" y="2781360"/>
            <a:ext cx="70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１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テキスト ボックス 83"/>
          <p:cNvSpPr/>
          <p:nvPr/>
        </p:nvSpPr>
        <p:spPr>
          <a:xfrm>
            <a:off x="8028000" y="3755880"/>
            <a:ext cx="70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8.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テキスト ボックス 84"/>
          <p:cNvSpPr/>
          <p:nvPr/>
        </p:nvSpPr>
        <p:spPr>
          <a:xfrm>
            <a:off x="6478560" y="5086440"/>
            <a:ext cx="704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77.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テキスト ボックス 85"/>
          <p:cNvSpPr/>
          <p:nvPr/>
        </p:nvSpPr>
        <p:spPr>
          <a:xfrm>
            <a:off x="8337600" y="5116680"/>
            <a:ext cx="70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31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テキスト ボックス 86"/>
          <p:cNvSpPr/>
          <p:nvPr/>
        </p:nvSpPr>
        <p:spPr>
          <a:xfrm>
            <a:off x="6534000" y="5877000"/>
            <a:ext cx="70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31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テキスト ボックス 44"/>
          <p:cNvSpPr/>
          <p:nvPr/>
        </p:nvSpPr>
        <p:spPr>
          <a:xfrm>
            <a:off x="4808520" y="4402080"/>
            <a:ext cx="266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６９＋</a:t>
            </a: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8.5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＝</a:t>
            </a: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77.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3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2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円/楕円 2"/>
          <p:cNvSpPr/>
          <p:nvPr/>
        </p:nvSpPr>
        <p:spPr>
          <a:xfrm>
            <a:off x="6789600" y="189000"/>
            <a:ext cx="1440000" cy="14396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3" name="グループ化 8"/>
          <p:cNvGrpSpPr/>
          <p:nvPr/>
        </p:nvGrpSpPr>
        <p:grpSpPr>
          <a:xfrm>
            <a:off x="6797520" y="188640"/>
            <a:ext cx="1440000" cy="1440000"/>
            <a:chOff x="6797520" y="188640"/>
            <a:chExt cx="1440000" cy="1440000"/>
          </a:xfrm>
        </p:grpSpPr>
        <p:sp>
          <p:nvSpPr>
            <p:cNvPr id="124" name="円弧 3"/>
            <p:cNvSpPr/>
            <p:nvPr/>
          </p:nvSpPr>
          <p:spPr>
            <a:xfrm rot="10800000">
              <a:off x="6797520" y="188280"/>
              <a:ext cx="1440000" cy="1439640"/>
            </a:xfrm>
            <a:custGeom>
              <a:avLst/>
              <a:gdLst/>
              <a:ahLst/>
              <a:rect l="l" t="t" r="r" b="b"/>
              <a:pathLst>
                <a:path stroke="0" w="1440000" h="1440001">
                  <a:moveTo>
                    <a:pt x="720000" y="0"/>
                  </a:moveTo>
                  <a:cubicBezTo>
                    <a:pt x="1117645" y="0"/>
                    <a:pt x="1440000" y="322355"/>
                    <a:pt x="1440000" y="720001"/>
                  </a:cubicBezTo>
                  <a:lnTo>
                    <a:pt x="720000" y="720001"/>
                  </a:lnTo>
                  <a:lnTo>
                    <a:pt x="720000" y="0"/>
                  </a:lnTo>
                  <a:close/>
                </a:path>
                <a:path fill="none" w="1440000" h="1440001">
                  <a:moveTo>
                    <a:pt x="720000" y="0"/>
                  </a:moveTo>
                  <a:cubicBezTo>
                    <a:pt x="1117645" y="0"/>
                    <a:pt x="1440000" y="322355"/>
                    <a:pt x="1440000" y="720001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" name="直線コネクタ 5"/>
            <p:cNvSpPr/>
            <p:nvPr/>
          </p:nvSpPr>
          <p:spPr>
            <a:xfrm>
              <a:off x="6797520" y="908640"/>
              <a:ext cx="720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" name="直線コネクタ 7"/>
            <p:cNvSpPr/>
            <p:nvPr/>
          </p:nvSpPr>
          <p:spPr>
            <a:xfrm>
              <a:off x="7517520" y="909000"/>
              <a:ext cx="0" cy="719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7" name="円弧 51"/>
          <p:cNvSpPr/>
          <p:nvPr/>
        </p:nvSpPr>
        <p:spPr>
          <a:xfrm rot="10800000">
            <a:off x="158760" y="-2857680"/>
            <a:ext cx="8640720" cy="8639280"/>
          </a:xfrm>
          <a:custGeom>
            <a:avLst/>
            <a:gdLst/>
            <a:ahLst/>
            <a:rect l="l" t="t" r="r" b="b"/>
            <a:pathLst>
              <a:path stroke="0" w="8640763" h="8639175">
                <a:moveTo>
                  <a:pt x="4320381" y="0"/>
                </a:moveTo>
                <a:cubicBezTo>
                  <a:pt x="6706462" y="0"/>
                  <a:pt x="8640763" y="1933945"/>
                  <a:pt x="8640763" y="4319588"/>
                </a:cubicBezTo>
                <a:lnTo>
                  <a:pt x="4320382" y="4319588"/>
                </a:lnTo>
                <a:cubicBezTo>
                  <a:pt x="4320382" y="2879725"/>
                  <a:pt x="4320381" y="1439863"/>
                  <a:pt x="4320381" y="0"/>
                </a:cubicBezTo>
                <a:close/>
              </a:path>
              <a:path fill="none" w="8640763" h="8639175">
                <a:moveTo>
                  <a:pt x="4320381" y="0"/>
                </a:moveTo>
                <a:cubicBezTo>
                  <a:pt x="6706462" y="0"/>
                  <a:pt x="8640763" y="1933945"/>
                  <a:pt x="8640763" y="4319588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直線コネクタ 53"/>
          <p:cNvSpPr/>
          <p:nvPr/>
        </p:nvSpPr>
        <p:spPr>
          <a:xfrm>
            <a:off x="169920" y="1476360"/>
            <a:ext cx="4319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直線コネクタ 54"/>
          <p:cNvSpPr/>
          <p:nvPr/>
        </p:nvSpPr>
        <p:spPr>
          <a:xfrm>
            <a:off x="4500720" y="1486080"/>
            <a:ext cx="0" cy="4319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7021440" y="2274840"/>
            <a:ext cx="66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ｃｍ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正方形/長方形 12"/>
          <p:cNvSpPr/>
          <p:nvPr/>
        </p:nvSpPr>
        <p:spPr>
          <a:xfrm>
            <a:off x="6151680" y="2279520"/>
            <a:ext cx="792000" cy="462240"/>
          </a:xfrm>
          <a:prstGeom prst="rect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正方形/長方形 58"/>
          <p:cNvSpPr/>
          <p:nvPr/>
        </p:nvSpPr>
        <p:spPr>
          <a:xfrm>
            <a:off x="6151680" y="2847960"/>
            <a:ext cx="792000" cy="461880"/>
          </a:xfrm>
          <a:prstGeom prst="rect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テキスト ボックス 61"/>
          <p:cNvSpPr/>
          <p:nvPr/>
        </p:nvSpPr>
        <p:spPr>
          <a:xfrm>
            <a:off x="4711680" y="1779480"/>
            <a:ext cx="233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・１つの三角形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テキスト ボックス 62"/>
          <p:cNvSpPr/>
          <p:nvPr/>
        </p:nvSpPr>
        <p:spPr>
          <a:xfrm>
            <a:off x="4938840" y="2820960"/>
            <a:ext cx="121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高さ・・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テキスト ボックス 64"/>
          <p:cNvSpPr/>
          <p:nvPr/>
        </p:nvSpPr>
        <p:spPr>
          <a:xfrm>
            <a:off x="4938840" y="2268360"/>
            <a:ext cx="127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底辺・・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正方形/長方形 66"/>
          <p:cNvSpPr/>
          <p:nvPr/>
        </p:nvSpPr>
        <p:spPr>
          <a:xfrm>
            <a:off x="7358040" y="3430440"/>
            <a:ext cx="792360" cy="460440"/>
          </a:xfrm>
          <a:prstGeom prst="rect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正方形/長方形 72"/>
          <p:cNvSpPr/>
          <p:nvPr/>
        </p:nvSpPr>
        <p:spPr>
          <a:xfrm>
            <a:off x="6488280" y="4030560"/>
            <a:ext cx="998280" cy="462240"/>
          </a:xfrm>
          <a:prstGeom prst="rect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テキスト ボックス 73"/>
          <p:cNvSpPr/>
          <p:nvPr/>
        </p:nvSpPr>
        <p:spPr>
          <a:xfrm>
            <a:off x="6961320" y="3433680"/>
            <a:ext cx="54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正方形/長方形 74"/>
          <p:cNvSpPr/>
          <p:nvPr/>
        </p:nvSpPr>
        <p:spPr>
          <a:xfrm>
            <a:off x="5083200" y="5200560"/>
            <a:ext cx="792000" cy="461880"/>
          </a:xfrm>
          <a:prstGeom prst="rect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テキスト ボックス 75"/>
          <p:cNvSpPr/>
          <p:nvPr/>
        </p:nvSpPr>
        <p:spPr>
          <a:xfrm>
            <a:off x="5673600" y="6018120"/>
            <a:ext cx="88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答え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テキスト ボックス 76"/>
          <p:cNvSpPr/>
          <p:nvPr/>
        </p:nvSpPr>
        <p:spPr>
          <a:xfrm>
            <a:off x="6543720" y="6018120"/>
            <a:ext cx="47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約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正方形/長方形 77"/>
          <p:cNvSpPr/>
          <p:nvPr/>
        </p:nvSpPr>
        <p:spPr>
          <a:xfrm>
            <a:off x="6978600" y="5167440"/>
            <a:ext cx="1028880" cy="460080"/>
          </a:xfrm>
          <a:prstGeom prst="rect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テキスト ボックス 78"/>
          <p:cNvSpPr/>
          <p:nvPr/>
        </p:nvSpPr>
        <p:spPr>
          <a:xfrm>
            <a:off x="7861320" y="5991120"/>
            <a:ext cx="47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直線コネクタ 14"/>
          <p:cNvSpPr/>
          <p:nvPr/>
        </p:nvSpPr>
        <p:spPr>
          <a:xfrm>
            <a:off x="5673600" y="6513480"/>
            <a:ext cx="2748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右矢印 15"/>
          <p:cNvSpPr/>
          <p:nvPr/>
        </p:nvSpPr>
        <p:spPr>
          <a:xfrm rot="10182600">
            <a:off x="4621320" y="1003320"/>
            <a:ext cx="2014560" cy="341280"/>
          </a:xfrm>
          <a:prstGeom prst="rightArrow">
            <a:avLst>
              <a:gd name="adj1" fmla="val 50000"/>
              <a:gd name="adj2" fmla="val 50202"/>
            </a:avLst>
          </a:prstGeom>
          <a:solidFill>
            <a:srgbClr val="afffff">
              <a:alpha val="70000"/>
            </a:srgbClr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テキスト ボックス 86"/>
          <p:cNvSpPr/>
          <p:nvPr/>
        </p:nvSpPr>
        <p:spPr>
          <a:xfrm>
            <a:off x="7155000" y="5956200"/>
            <a:ext cx="70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30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テキスト ボックス 44"/>
          <p:cNvSpPr/>
          <p:nvPr/>
        </p:nvSpPr>
        <p:spPr>
          <a:xfrm>
            <a:off x="6000840" y="4029120"/>
            <a:ext cx="47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二等辺三角形 1"/>
          <p:cNvSpPr/>
          <p:nvPr/>
        </p:nvSpPr>
        <p:spPr>
          <a:xfrm rot="4720200">
            <a:off x="1562400" y="-211680"/>
            <a:ext cx="1685880" cy="4211640"/>
          </a:xfrm>
          <a:prstGeom prst="triangle">
            <a:avLst>
              <a:gd name="adj" fmla="val 50000"/>
            </a:avLst>
          </a:prstGeom>
          <a:solidFill>
            <a:srgbClr val="afffff">
              <a:alpha val="70000"/>
            </a:srgbClr>
          </a:solidFill>
          <a:ln w="2844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二等辺三角形 47"/>
          <p:cNvSpPr/>
          <p:nvPr/>
        </p:nvSpPr>
        <p:spPr>
          <a:xfrm rot="3359400">
            <a:off x="1882080" y="545040"/>
            <a:ext cx="1684440" cy="4213440"/>
          </a:xfrm>
          <a:prstGeom prst="triangle">
            <a:avLst>
              <a:gd name="adj" fmla="val 50000"/>
            </a:avLst>
          </a:prstGeom>
          <a:solidFill>
            <a:srgbClr val="afffff">
              <a:alpha val="70000"/>
            </a:srgbClr>
          </a:solidFill>
          <a:ln w="2844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二等辺三角形 49"/>
          <p:cNvSpPr/>
          <p:nvPr/>
        </p:nvSpPr>
        <p:spPr>
          <a:xfrm rot="1995000">
            <a:off x="2472840" y="1127160"/>
            <a:ext cx="1684440" cy="4211640"/>
          </a:xfrm>
          <a:prstGeom prst="triangle">
            <a:avLst>
              <a:gd name="adj" fmla="val 50000"/>
            </a:avLst>
          </a:prstGeom>
          <a:solidFill>
            <a:srgbClr val="afffff">
              <a:alpha val="70000"/>
            </a:srgbClr>
          </a:solidFill>
          <a:ln w="2844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二等辺三角形 50"/>
          <p:cNvSpPr/>
          <p:nvPr/>
        </p:nvSpPr>
        <p:spPr>
          <a:xfrm rot="670200">
            <a:off x="3241440" y="1438200"/>
            <a:ext cx="1684080" cy="4211640"/>
          </a:xfrm>
          <a:prstGeom prst="triangle">
            <a:avLst>
              <a:gd name="adj" fmla="val 50000"/>
            </a:avLst>
          </a:prstGeom>
          <a:solidFill>
            <a:srgbClr val="afffff">
              <a:alpha val="70000"/>
            </a:srgbClr>
          </a:solidFill>
          <a:ln w="2844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二等辺三角形 52"/>
          <p:cNvSpPr/>
          <p:nvPr/>
        </p:nvSpPr>
        <p:spPr>
          <a:xfrm rot="4720200">
            <a:off x="7031520" y="632520"/>
            <a:ext cx="269640" cy="684360"/>
          </a:xfrm>
          <a:prstGeom prst="triangle">
            <a:avLst>
              <a:gd name="adj" fmla="val 50000"/>
            </a:avLst>
          </a:prstGeom>
          <a:solidFill>
            <a:srgbClr val="afffff">
              <a:alpha val="70000"/>
            </a:srgbClr>
          </a:solidFill>
          <a:ln w="1260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二等辺三角形 55"/>
          <p:cNvSpPr/>
          <p:nvPr/>
        </p:nvSpPr>
        <p:spPr>
          <a:xfrm flipH="1" rot="3392400">
            <a:off x="7084800" y="751320"/>
            <a:ext cx="270360" cy="684000"/>
          </a:xfrm>
          <a:prstGeom prst="triangle">
            <a:avLst>
              <a:gd name="adj" fmla="val 50000"/>
            </a:avLst>
          </a:prstGeom>
          <a:solidFill>
            <a:srgbClr val="afffff">
              <a:alpha val="70000"/>
            </a:srgbClr>
          </a:solidFill>
          <a:ln w="1260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二等辺三角形 56"/>
          <p:cNvSpPr/>
          <p:nvPr/>
        </p:nvSpPr>
        <p:spPr>
          <a:xfrm rot="2020200">
            <a:off x="7181640" y="853920"/>
            <a:ext cx="269640" cy="684360"/>
          </a:xfrm>
          <a:prstGeom prst="triangle">
            <a:avLst>
              <a:gd name="adj" fmla="val 50000"/>
            </a:avLst>
          </a:prstGeom>
          <a:solidFill>
            <a:srgbClr val="afffff">
              <a:alpha val="70000"/>
            </a:srgbClr>
          </a:solidFill>
          <a:ln w="1260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二等辺三角形 59"/>
          <p:cNvSpPr/>
          <p:nvPr/>
        </p:nvSpPr>
        <p:spPr>
          <a:xfrm rot="693000">
            <a:off x="7313760" y="910800"/>
            <a:ext cx="269640" cy="684360"/>
          </a:xfrm>
          <a:prstGeom prst="triangle">
            <a:avLst>
              <a:gd name="adj" fmla="val 50000"/>
            </a:avLst>
          </a:prstGeom>
          <a:solidFill>
            <a:srgbClr val="afffff">
              <a:alpha val="70000"/>
            </a:srgbClr>
          </a:solidFill>
          <a:ln w="1260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直線コネクタ 4"/>
          <p:cNvSpPr/>
          <p:nvPr/>
        </p:nvSpPr>
        <p:spPr>
          <a:xfrm flipH="1">
            <a:off x="3675240" y="1477800"/>
            <a:ext cx="815760" cy="4132440"/>
          </a:xfrm>
          <a:prstGeom prst="line">
            <a:avLst/>
          </a:prstGeom>
          <a:ln w="1908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正方形/長方形 5"/>
          <p:cNvSpPr/>
          <p:nvPr/>
        </p:nvSpPr>
        <p:spPr>
          <a:xfrm rot="678000">
            <a:off x="3684600" y="5504040"/>
            <a:ext cx="119160" cy="11880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テキスト ボックス 11"/>
          <p:cNvSpPr/>
          <p:nvPr/>
        </p:nvSpPr>
        <p:spPr>
          <a:xfrm>
            <a:off x="3897360" y="4156200"/>
            <a:ext cx="78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高さ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テキスト ボックス 65"/>
          <p:cNvSpPr/>
          <p:nvPr/>
        </p:nvSpPr>
        <p:spPr>
          <a:xfrm>
            <a:off x="3008160" y="5715000"/>
            <a:ext cx="81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底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テキスト ボックス 87"/>
          <p:cNvSpPr/>
          <p:nvPr/>
        </p:nvSpPr>
        <p:spPr>
          <a:xfrm>
            <a:off x="7047000" y="2857680"/>
            <a:ext cx="66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ｃｍ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正方形/長方形 88"/>
          <p:cNvSpPr/>
          <p:nvPr/>
        </p:nvSpPr>
        <p:spPr>
          <a:xfrm>
            <a:off x="6151680" y="3432240"/>
            <a:ext cx="792000" cy="461880"/>
          </a:xfrm>
          <a:prstGeom prst="rect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テキスト ボックス 90"/>
          <p:cNvSpPr/>
          <p:nvPr/>
        </p:nvSpPr>
        <p:spPr>
          <a:xfrm>
            <a:off x="4950000" y="3413160"/>
            <a:ext cx="132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面積・・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テキスト ボックス 91"/>
          <p:cNvSpPr/>
          <p:nvPr/>
        </p:nvSpPr>
        <p:spPr>
          <a:xfrm>
            <a:off x="8182080" y="3435480"/>
            <a:ext cx="76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÷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テキスト ボックス 92"/>
          <p:cNvSpPr/>
          <p:nvPr/>
        </p:nvSpPr>
        <p:spPr>
          <a:xfrm>
            <a:off x="4686480" y="4675320"/>
            <a:ext cx="233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・円の面積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テキスト ボックス 93"/>
          <p:cNvSpPr/>
          <p:nvPr/>
        </p:nvSpPr>
        <p:spPr>
          <a:xfrm>
            <a:off x="5843520" y="515952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×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１６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正方形/長方形 94"/>
          <p:cNvSpPr/>
          <p:nvPr/>
        </p:nvSpPr>
        <p:spPr>
          <a:xfrm>
            <a:off x="7089840" y="5956200"/>
            <a:ext cx="792000" cy="460440"/>
          </a:xfrm>
          <a:prstGeom prst="rect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テキスト ボックス 95"/>
          <p:cNvSpPr/>
          <p:nvPr/>
        </p:nvSpPr>
        <p:spPr>
          <a:xfrm>
            <a:off x="6265800" y="2271600"/>
            <a:ext cx="70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3.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テキスト ボックス 96"/>
          <p:cNvSpPr/>
          <p:nvPr/>
        </p:nvSpPr>
        <p:spPr>
          <a:xfrm>
            <a:off x="6273720" y="2840040"/>
            <a:ext cx="70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9.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テキスト ボックス 97"/>
          <p:cNvSpPr/>
          <p:nvPr/>
        </p:nvSpPr>
        <p:spPr>
          <a:xfrm>
            <a:off x="6267600" y="3438360"/>
            <a:ext cx="70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3.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テキスト ボックス 98"/>
          <p:cNvSpPr/>
          <p:nvPr/>
        </p:nvSpPr>
        <p:spPr>
          <a:xfrm>
            <a:off x="7486560" y="3406680"/>
            <a:ext cx="70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9.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テキスト ボックス 99"/>
          <p:cNvSpPr/>
          <p:nvPr/>
        </p:nvSpPr>
        <p:spPr>
          <a:xfrm>
            <a:off x="6508800" y="4014720"/>
            <a:ext cx="97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19.1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テキスト ボックス 100"/>
          <p:cNvSpPr/>
          <p:nvPr/>
        </p:nvSpPr>
        <p:spPr>
          <a:xfrm>
            <a:off x="5060880" y="5156280"/>
            <a:ext cx="97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19.1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テキスト ボックス 101"/>
          <p:cNvSpPr/>
          <p:nvPr/>
        </p:nvSpPr>
        <p:spPr>
          <a:xfrm>
            <a:off x="6999120" y="5130720"/>
            <a:ext cx="116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305.7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1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1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6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6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1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右矢印 88"/>
          <p:cNvSpPr/>
          <p:nvPr/>
        </p:nvSpPr>
        <p:spPr>
          <a:xfrm>
            <a:off x="3492360" y="1844640"/>
            <a:ext cx="648000" cy="4320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0000">
              <a:alpha val="70000"/>
            </a:srgbClr>
          </a:solidFill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右矢印 164"/>
          <p:cNvSpPr/>
          <p:nvPr/>
        </p:nvSpPr>
        <p:spPr>
          <a:xfrm>
            <a:off x="3492360" y="4791240"/>
            <a:ext cx="648000" cy="431640"/>
          </a:xfrm>
          <a:prstGeom prst="rightArrow">
            <a:avLst>
              <a:gd name="adj1" fmla="val 50000"/>
              <a:gd name="adj2" fmla="val 50042"/>
            </a:avLst>
          </a:prstGeom>
          <a:solidFill>
            <a:srgbClr val="ff0000">
              <a:alpha val="70000"/>
            </a:srgbClr>
          </a:solidFill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直線コネクタ 202"/>
          <p:cNvSpPr/>
          <p:nvPr/>
        </p:nvSpPr>
        <p:spPr>
          <a:xfrm flipH="1" flipV="1">
            <a:off x="1792440" y="4916520"/>
            <a:ext cx="410400" cy="1002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直線コネクタ 203"/>
          <p:cNvSpPr/>
          <p:nvPr/>
        </p:nvSpPr>
        <p:spPr>
          <a:xfrm flipH="1" flipV="1">
            <a:off x="1811520" y="4952160"/>
            <a:ext cx="751320" cy="74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8" name="グループ化 207"/>
          <p:cNvGrpSpPr/>
          <p:nvPr/>
        </p:nvGrpSpPr>
        <p:grpSpPr>
          <a:xfrm>
            <a:off x="264960" y="3396600"/>
            <a:ext cx="3064320" cy="3068640"/>
            <a:chOff x="264960" y="3396600"/>
            <a:chExt cx="3064320" cy="3068640"/>
          </a:xfrm>
        </p:grpSpPr>
        <p:grpSp>
          <p:nvGrpSpPr>
            <p:cNvPr id="179" name="グループ化 176"/>
            <p:cNvGrpSpPr/>
            <p:nvPr/>
          </p:nvGrpSpPr>
          <p:grpSpPr>
            <a:xfrm>
              <a:off x="385200" y="3524760"/>
              <a:ext cx="2819160" cy="2819520"/>
              <a:chOff x="385200" y="3524760"/>
              <a:chExt cx="2819160" cy="2819520"/>
            </a:xfrm>
          </p:grpSpPr>
          <p:sp>
            <p:nvSpPr>
              <p:cNvPr id="180" name="円弧 168"/>
              <p:cNvSpPr/>
              <p:nvPr/>
            </p:nvSpPr>
            <p:spPr>
              <a:xfrm rot="14878200">
                <a:off x="711720" y="3852000"/>
                <a:ext cx="2165400" cy="2165040"/>
              </a:xfrm>
              <a:custGeom>
                <a:avLst/>
                <a:gdLst/>
                <a:ahLst/>
                <a:rect l="l" t="t" r="r" b="b"/>
                <a:pathLst>
                  <a:path stroke="0" w="2164994" h="2164994">
                    <a:moveTo>
                      <a:pt x="1073696" y="36"/>
                    </a:moveTo>
                    <a:cubicBezTo>
                      <a:pt x="1215005" y="-1113"/>
                      <a:pt x="1355171" y="25417"/>
                      <a:pt x="1486285" y="78129"/>
                    </a:cubicBezTo>
                    <a:lnTo>
                      <a:pt x="1082497" y="1082497"/>
                    </a:lnTo>
                    <a:cubicBezTo>
                      <a:pt x="1079563" y="721677"/>
                      <a:pt x="1076630" y="360856"/>
                      <a:pt x="1073696" y="36"/>
                    </a:cubicBezTo>
                    <a:close/>
                  </a:path>
                  <a:path fill="none" w="2164994" h="2164994">
                    <a:moveTo>
                      <a:pt x="1073696" y="36"/>
                    </a:moveTo>
                    <a:cubicBezTo>
                      <a:pt x="1215005" y="-1113"/>
                      <a:pt x="1355171" y="25417"/>
                      <a:pt x="1486285" y="78129"/>
                    </a:cubicBezTo>
                  </a:path>
                </a:pathLst>
              </a:custGeom>
              <a:solidFill>
                <a:srgbClr val="ffcc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1" name="直線コネクタ 146"/>
              <p:cNvSpPr/>
              <p:nvPr/>
            </p:nvSpPr>
            <p:spPr>
              <a:xfrm>
                <a:off x="704520" y="4937400"/>
                <a:ext cx="1082520" cy="5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2" name="直線コネクタ 147"/>
              <p:cNvSpPr/>
              <p:nvPr/>
            </p:nvSpPr>
            <p:spPr>
              <a:xfrm flipV="1">
                <a:off x="780480" y="4943160"/>
                <a:ext cx="978480" cy="406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83" name="グループ化 177"/>
            <p:cNvGrpSpPr/>
            <p:nvPr/>
          </p:nvGrpSpPr>
          <p:grpSpPr>
            <a:xfrm>
              <a:off x="267120" y="3403080"/>
              <a:ext cx="3062160" cy="3062160"/>
              <a:chOff x="267120" y="3403080"/>
              <a:chExt cx="3062160" cy="3062160"/>
            </a:xfrm>
          </p:grpSpPr>
          <p:sp>
            <p:nvSpPr>
              <p:cNvPr id="184" name="円弧 178"/>
              <p:cNvSpPr/>
              <p:nvPr/>
            </p:nvSpPr>
            <p:spPr>
              <a:xfrm rot="13522200">
                <a:off x="715320" y="3851640"/>
                <a:ext cx="2165400" cy="2165040"/>
              </a:xfrm>
              <a:custGeom>
                <a:avLst/>
                <a:gdLst/>
                <a:ahLst/>
                <a:rect l="l" t="t" r="r" b="b"/>
                <a:pathLst>
                  <a:path stroke="0" w="2164994" h="2164994">
                    <a:moveTo>
                      <a:pt x="1073696" y="36"/>
                    </a:moveTo>
                    <a:cubicBezTo>
                      <a:pt x="1215005" y="-1113"/>
                      <a:pt x="1355171" y="25417"/>
                      <a:pt x="1486285" y="78129"/>
                    </a:cubicBezTo>
                    <a:lnTo>
                      <a:pt x="1082497" y="1082497"/>
                    </a:lnTo>
                    <a:cubicBezTo>
                      <a:pt x="1079563" y="721677"/>
                      <a:pt x="1076630" y="360856"/>
                      <a:pt x="1073696" y="36"/>
                    </a:cubicBezTo>
                    <a:close/>
                  </a:path>
                  <a:path fill="none" w="2164994" h="2164994">
                    <a:moveTo>
                      <a:pt x="1073696" y="36"/>
                    </a:moveTo>
                    <a:cubicBezTo>
                      <a:pt x="1215005" y="-1113"/>
                      <a:pt x="1355171" y="25417"/>
                      <a:pt x="1486285" y="78129"/>
                    </a:cubicBezTo>
                  </a:path>
                </a:pathLst>
              </a:custGeom>
              <a:solidFill>
                <a:srgbClr val="ffcc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5" name="直線コネクタ 179"/>
              <p:cNvSpPr/>
              <p:nvPr/>
            </p:nvSpPr>
            <p:spPr>
              <a:xfrm flipV="1">
                <a:off x="797400" y="4935600"/>
                <a:ext cx="1001520" cy="410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6" name="直線コネクタ 180"/>
              <p:cNvSpPr/>
              <p:nvPr/>
            </p:nvSpPr>
            <p:spPr>
              <a:xfrm flipV="1">
                <a:off x="1026000" y="4951440"/>
                <a:ext cx="747360" cy="750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87" name="グループ化 181"/>
            <p:cNvGrpSpPr/>
            <p:nvPr/>
          </p:nvGrpSpPr>
          <p:grpSpPr>
            <a:xfrm>
              <a:off x="380520" y="3508920"/>
              <a:ext cx="2836440" cy="2836440"/>
              <a:chOff x="380520" y="3508920"/>
              <a:chExt cx="2836440" cy="2836440"/>
            </a:xfrm>
          </p:grpSpPr>
          <p:sp>
            <p:nvSpPr>
              <p:cNvPr id="188" name="円弧 182"/>
              <p:cNvSpPr/>
              <p:nvPr/>
            </p:nvSpPr>
            <p:spPr>
              <a:xfrm rot="12172200">
                <a:off x="716040" y="3844080"/>
                <a:ext cx="2165040" cy="2165400"/>
              </a:xfrm>
              <a:custGeom>
                <a:avLst/>
                <a:gdLst/>
                <a:ahLst/>
                <a:rect l="l" t="t" r="r" b="b"/>
                <a:pathLst>
                  <a:path stroke="0" w="2164994" h="2164994">
                    <a:moveTo>
                      <a:pt x="1073696" y="36"/>
                    </a:moveTo>
                    <a:cubicBezTo>
                      <a:pt x="1215005" y="-1113"/>
                      <a:pt x="1355171" y="25417"/>
                      <a:pt x="1486285" y="78129"/>
                    </a:cubicBezTo>
                    <a:lnTo>
                      <a:pt x="1082497" y="1082497"/>
                    </a:lnTo>
                    <a:cubicBezTo>
                      <a:pt x="1079563" y="721677"/>
                      <a:pt x="1076630" y="360856"/>
                      <a:pt x="1073696" y="36"/>
                    </a:cubicBezTo>
                    <a:close/>
                  </a:path>
                  <a:path fill="none" w="2164994" h="2164994">
                    <a:moveTo>
                      <a:pt x="1073696" y="36"/>
                    </a:moveTo>
                    <a:cubicBezTo>
                      <a:pt x="1215005" y="-1113"/>
                      <a:pt x="1355171" y="25417"/>
                      <a:pt x="1486285" y="78129"/>
                    </a:cubicBezTo>
                  </a:path>
                </a:pathLst>
              </a:custGeom>
              <a:solidFill>
                <a:srgbClr val="ffcc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9" name="直線コネクタ 183"/>
              <p:cNvSpPr/>
              <p:nvPr/>
            </p:nvSpPr>
            <p:spPr>
              <a:xfrm flipV="1">
                <a:off x="1040400" y="4924800"/>
                <a:ext cx="767880" cy="762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0" name="直線コネクタ 184"/>
              <p:cNvSpPr/>
              <p:nvPr/>
            </p:nvSpPr>
            <p:spPr>
              <a:xfrm flipV="1">
                <a:off x="1375920" y="4958280"/>
                <a:ext cx="403200" cy="9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91" name="グループ化 185"/>
            <p:cNvGrpSpPr/>
            <p:nvPr/>
          </p:nvGrpSpPr>
          <p:grpSpPr>
            <a:xfrm>
              <a:off x="702000" y="3831120"/>
              <a:ext cx="2196360" cy="2197080"/>
              <a:chOff x="702000" y="3831120"/>
              <a:chExt cx="2196360" cy="2197080"/>
            </a:xfrm>
          </p:grpSpPr>
          <p:sp>
            <p:nvSpPr>
              <p:cNvPr id="192" name="円弧 186"/>
              <p:cNvSpPr/>
              <p:nvPr/>
            </p:nvSpPr>
            <p:spPr>
              <a:xfrm rot="10850400">
                <a:off x="717480" y="3846960"/>
                <a:ext cx="2165040" cy="2165400"/>
              </a:xfrm>
              <a:custGeom>
                <a:avLst/>
                <a:gdLst/>
                <a:ahLst/>
                <a:rect l="l" t="t" r="r" b="b"/>
                <a:pathLst>
                  <a:path stroke="0" w="2164994" h="2164994">
                    <a:moveTo>
                      <a:pt x="1073696" y="36"/>
                    </a:moveTo>
                    <a:cubicBezTo>
                      <a:pt x="1215005" y="-1113"/>
                      <a:pt x="1355171" y="25417"/>
                      <a:pt x="1486285" y="78129"/>
                    </a:cubicBezTo>
                    <a:lnTo>
                      <a:pt x="1082497" y="1082497"/>
                    </a:lnTo>
                    <a:cubicBezTo>
                      <a:pt x="1079563" y="721677"/>
                      <a:pt x="1076630" y="360856"/>
                      <a:pt x="1073696" y="36"/>
                    </a:cubicBezTo>
                    <a:close/>
                  </a:path>
                  <a:path fill="none" w="2164994" h="2164994">
                    <a:moveTo>
                      <a:pt x="1073696" y="36"/>
                    </a:moveTo>
                    <a:cubicBezTo>
                      <a:pt x="1215005" y="-1113"/>
                      <a:pt x="1355171" y="25417"/>
                      <a:pt x="1486285" y="78129"/>
                    </a:cubicBezTo>
                  </a:path>
                </a:pathLst>
              </a:custGeom>
              <a:solidFill>
                <a:srgbClr val="ffcc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3" name="直線コネクタ 187"/>
              <p:cNvSpPr/>
              <p:nvPr/>
            </p:nvSpPr>
            <p:spPr>
              <a:xfrm flipV="1">
                <a:off x="1369440" y="4933800"/>
                <a:ext cx="425880" cy="995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4" name="直線コネクタ 188"/>
              <p:cNvSpPr/>
              <p:nvPr/>
            </p:nvSpPr>
            <p:spPr>
              <a:xfrm flipV="1">
                <a:off x="1787760" y="4959360"/>
                <a:ext cx="6120" cy="1059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95" name="グループ化 191"/>
            <p:cNvGrpSpPr/>
            <p:nvPr/>
          </p:nvGrpSpPr>
          <p:grpSpPr>
            <a:xfrm>
              <a:off x="387000" y="3521160"/>
              <a:ext cx="2819160" cy="2819520"/>
              <a:chOff x="387000" y="3521160"/>
              <a:chExt cx="2819160" cy="2819520"/>
            </a:xfrm>
          </p:grpSpPr>
          <p:sp>
            <p:nvSpPr>
              <p:cNvPr id="196" name="円弧 204"/>
              <p:cNvSpPr/>
              <p:nvPr/>
            </p:nvSpPr>
            <p:spPr>
              <a:xfrm rot="9478200">
                <a:off x="713880" y="3848040"/>
                <a:ext cx="2165040" cy="2165400"/>
              </a:xfrm>
              <a:custGeom>
                <a:avLst/>
                <a:gdLst/>
                <a:ahLst/>
                <a:rect l="l" t="t" r="r" b="b"/>
                <a:pathLst>
                  <a:path stroke="0" w="2164994" h="2164994">
                    <a:moveTo>
                      <a:pt x="1073696" y="36"/>
                    </a:moveTo>
                    <a:cubicBezTo>
                      <a:pt x="1215005" y="-1113"/>
                      <a:pt x="1355171" y="25417"/>
                      <a:pt x="1486285" y="78129"/>
                    </a:cubicBezTo>
                    <a:lnTo>
                      <a:pt x="1082497" y="1082497"/>
                    </a:lnTo>
                    <a:cubicBezTo>
                      <a:pt x="1079563" y="721677"/>
                      <a:pt x="1076630" y="360856"/>
                      <a:pt x="1073696" y="36"/>
                    </a:cubicBezTo>
                    <a:close/>
                  </a:path>
                  <a:path fill="none" w="2164994" h="2164994">
                    <a:moveTo>
                      <a:pt x="1073696" y="36"/>
                    </a:moveTo>
                    <a:cubicBezTo>
                      <a:pt x="1215005" y="-1113"/>
                      <a:pt x="1355171" y="25417"/>
                      <a:pt x="1486285" y="78129"/>
                    </a:cubicBezTo>
                  </a:path>
                </a:pathLst>
              </a:custGeom>
              <a:solidFill>
                <a:srgbClr val="ffcc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7" name="直線コネクタ 205"/>
              <p:cNvSpPr/>
              <p:nvPr/>
            </p:nvSpPr>
            <p:spPr>
              <a:xfrm flipV="1">
                <a:off x="1789920" y="4938840"/>
                <a:ext cx="5400" cy="1082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8" name="直線コネクタ 206"/>
              <p:cNvSpPr/>
              <p:nvPr/>
            </p:nvSpPr>
            <p:spPr>
              <a:xfrm flipH="1" flipV="1">
                <a:off x="1804680" y="4952880"/>
                <a:ext cx="406080" cy="978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99" name="円弧 201"/>
            <p:cNvSpPr/>
            <p:nvPr/>
          </p:nvSpPr>
          <p:spPr>
            <a:xfrm rot="8122800">
              <a:off x="713520" y="3844440"/>
              <a:ext cx="2165040" cy="2165400"/>
            </a:xfrm>
            <a:custGeom>
              <a:avLst/>
              <a:gdLst/>
              <a:ahLst/>
              <a:rect l="l" t="t" r="r" b="b"/>
              <a:pathLst>
                <a:path stroke="0" w="2164994" h="2164994">
                  <a:moveTo>
                    <a:pt x="1073696" y="36"/>
                  </a:moveTo>
                  <a:cubicBezTo>
                    <a:pt x="1215005" y="-1113"/>
                    <a:pt x="1355171" y="25417"/>
                    <a:pt x="1486285" y="78129"/>
                  </a:cubicBezTo>
                  <a:lnTo>
                    <a:pt x="1082497" y="1082497"/>
                  </a:lnTo>
                  <a:cubicBezTo>
                    <a:pt x="1079563" y="721677"/>
                    <a:pt x="1076630" y="360856"/>
                    <a:pt x="1073696" y="36"/>
                  </a:cubicBezTo>
                  <a:close/>
                </a:path>
                <a:path fill="none" w="2164994" h="2164994">
                  <a:moveTo>
                    <a:pt x="1073696" y="36"/>
                  </a:moveTo>
                  <a:cubicBezTo>
                    <a:pt x="1215005" y="-1113"/>
                    <a:pt x="1355171" y="25417"/>
                    <a:pt x="1486285" y="78129"/>
                  </a:cubicBezTo>
                </a:path>
              </a:pathLst>
            </a:custGeom>
            <a:solidFill>
              <a:srgbClr val="ffcc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00" name="グループ化 193"/>
            <p:cNvGrpSpPr/>
            <p:nvPr/>
          </p:nvGrpSpPr>
          <p:grpSpPr>
            <a:xfrm>
              <a:off x="373680" y="3516480"/>
              <a:ext cx="2831040" cy="2831040"/>
              <a:chOff x="373680" y="3516480"/>
              <a:chExt cx="2831040" cy="2831040"/>
            </a:xfrm>
          </p:grpSpPr>
          <p:sp>
            <p:nvSpPr>
              <p:cNvPr id="201" name="円弧 198"/>
              <p:cNvSpPr/>
              <p:nvPr/>
            </p:nvSpPr>
            <p:spPr>
              <a:xfrm rot="6756000">
                <a:off x="706320" y="3849120"/>
                <a:ext cx="2165400" cy="2165040"/>
              </a:xfrm>
              <a:custGeom>
                <a:avLst/>
                <a:gdLst/>
                <a:ahLst/>
                <a:rect l="l" t="t" r="r" b="b"/>
                <a:pathLst>
                  <a:path stroke="0" w="2164994" h="2164994">
                    <a:moveTo>
                      <a:pt x="1073696" y="36"/>
                    </a:moveTo>
                    <a:cubicBezTo>
                      <a:pt x="1215005" y="-1113"/>
                      <a:pt x="1355171" y="25417"/>
                      <a:pt x="1486285" y="78129"/>
                    </a:cubicBezTo>
                    <a:lnTo>
                      <a:pt x="1082497" y="1082497"/>
                    </a:lnTo>
                    <a:cubicBezTo>
                      <a:pt x="1079563" y="721677"/>
                      <a:pt x="1076630" y="360856"/>
                      <a:pt x="1073696" y="36"/>
                    </a:cubicBezTo>
                    <a:close/>
                  </a:path>
                  <a:path fill="none" w="2164994" h="2164994">
                    <a:moveTo>
                      <a:pt x="1073696" y="36"/>
                    </a:moveTo>
                    <a:cubicBezTo>
                      <a:pt x="1215005" y="-1113"/>
                      <a:pt x="1355171" y="25417"/>
                      <a:pt x="1486285" y="78129"/>
                    </a:cubicBezTo>
                  </a:path>
                </a:pathLst>
              </a:custGeom>
              <a:solidFill>
                <a:srgbClr val="ffcc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2" name="直線コネクタ 199"/>
              <p:cNvSpPr/>
              <p:nvPr/>
            </p:nvSpPr>
            <p:spPr>
              <a:xfrm flipH="1" flipV="1">
                <a:off x="1800360" y="4931280"/>
                <a:ext cx="766800" cy="764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3" name="直線コネクタ 200"/>
              <p:cNvSpPr/>
              <p:nvPr/>
            </p:nvSpPr>
            <p:spPr>
              <a:xfrm flipH="1" flipV="1">
                <a:off x="1820520" y="4951080"/>
                <a:ext cx="981720" cy="398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04" name="グループ化 194"/>
            <p:cNvGrpSpPr/>
            <p:nvPr/>
          </p:nvGrpSpPr>
          <p:grpSpPr>
            <a:xfrm>
              <a:off x="699480" y="3852000"/>
              <a:ext cx="2177280" cy="2176200"/>
              <a:chOff x="699480" y="3852000"/>
              <a:chExt cx="2177280" cy="2176200"/>
            </a:xfrm>
          </p:grpSpPr>
          <p:sp>
            <p:nvSpPr>
              <p:cNvPr id="205" name="円弧 195"/>
              <p:cNvSpPr/>
              <p:nvPr/>
            </p:nvSpPr>
            <p:spPr>
              <a:xfrm rot="5383200">
                <a:off x="704520" y="3857400"/>
                <a:ext cx="2165400" cy="2165040"/>
              </a:xfrm>
              <a:custGeom>
                <a:avLst/>
                <a:gdLst/>
                <a:ahLst/>
                <a:rect l="l" t="t" r="r" b="b"/>
                <a:pathLst>
                  <a:path stroke="0" w="2164994" h="2164994">
                    <a:moveTo>
                      <a:pt x="1073696" y="36"/>
                    </a:moveTo>
                    <a:cubicBezTo>
                      <a:pt x="1215005" y="-1113"/>
                      <a:pt x="1355171" y="25417"/>
                      <a:pt x="1486285" y="78129"/>
                    </a:cubicBezTo>
                    <a:lnTo>
                      <a:pt x="1082497" y="1082497"/>
                    </a:lnTo>
                    <a:cubicBezTo>
                      <a:pt x="1079563" y="721677"/>
                      <a:pt x="1076630" y="360856"/>
                      <a:pt x="1073696" y="36"/>
                    </a:cubicBezTo>
                    <a:close/>
                  </a:path>
                  <a:path fill="none" w="2164994" h="2164994">
                    <a:moveTo>
                      <a:pt x="1073696" y="36"/>
                    </a:moveTo>
                    <a:cubicBezTo>
                      <a:pt x="1215005" y="-1113"/>
                      <a:pt x="1355171" y="25417"/>
                      <a:pt x="1486285" y="78129"/>
                    </a:cubicBezTo>
                  </a:path>
                </a:pathLst>
              </a:custGeom>
              <a:solidFill>
                <a:srgbClr val="ffcc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6" name="直線コネクタ 196"/>
              <p:cNvSpPr/>
              <p:nvPr/>
            </p:nvSpPr>
            <p:spPr>
              <a:xfrm flipH="1" flipV="1">
                <a:off x="1782360" y="4935240"/>
                <a:ext cx="1002960" cy="406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7" name="直線コネクタ 197"/>
              <p:cNvSpPr/>
              <p:nvPr/>
            </p:nvSpPr>
            <p:spPr>
              <a:xfrm flipH="1">
                <a:off x="1817280" y="4930920"/>
                <a:ext cx="1059480" cy="14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pic>
        <p:nvPicPr>
          <p:cNvPr id="208" name="グループ化 209" descr=""/>
          <p:cNvPicPr/>
          <p:nvPr/>
        </p:nvPicPr>
        <p:blipFill>
          <a:blip r:embed="rId1"/>
          <a:stretch/>
        </p:blipFill>
        <p:spPr>
          <a:xfrm>
            <a:off x="1779480" y="4516560"/>
            <a:ext cx="1096920" cy="439560"/>
          </a:xfrm>
          <a:prstGeom prst="rect">
            <a:avLst/>
          </a:prstGeom>
          <a:ln w="0">
            <a:noFill/>
          </a:ln>
        </p:spPr>
      </p:pic>
      <p:pic>
        <p:nvPicPr>
          <p:cNvPr id="209" name="グループ化 210" descr=""/>
          <p:cNvPicPr/>
          <p:nvPr/>
        </p:nvPicPr>
        <p:blipFill>
          <a:blip r:embed="rId2"/>
          <a:stretch/>
        </p:blipFill>
        <p:spPr>
          <a:xfrm>
            <a:off x="1768320" y="4164120"/>
            <a:ext cx="1024200" cy="785880"/>
          </a:xfrm>
          <a:prstGeom prst="rect">
            <a:avLst/>
          </a:prstGeom>
          <a:ln w="0">
            <a:noFill/>
          </a:ln>
        </p:spPr>
      </p:pic>
      <p:pic>
        <p:nvPicPr>
          <p:cNvPr id="210" name="グループ化 211" descr=""/>
          <p:cNvPicPr/>
          <p:nvPr/>
        </p:nvPicPr>
        <p:blipFill>
          <a:blip r:embed="rId3"/>
          <a:stretch/>
        </p:blipFill>
        <p:spPr>
          <a:xfrm>
            <a:off x="1773360" y="3925800"/>
            <a:ext cx="787320" cy="1024200"/>
          </a:xfrm>
          <a:prstGeom prst="rect">
            <a:avLst/>
          </a:prstGeom>
          <a:ln w="0">
            <a:noFill/>
          </a:ln>
        </p:spPr>
      </p:pic>
      <p:pic>
        <p:nvPicPr>
          <p:cNvPr id="211" name="グループ化 212" descr=""/>
          <p:cNvPicPr/>
          <p:nvPr/>
        </p:nvPicPr>
        <p:blipFill>
          <a:blip r:embed="rId4"/>
          <a:stretch/>
        </p:blipFill>
        <p:spPr>
          <a:xfrm>
            <a:off x="1779480" y="3846600"/>
            <a:ext cx="446040" cy="1103400"/>
          </a:xfrm>
          <a:prstGeom prst="rect">
            <a:avLst/>
          </a:prstGeom>
          <a:ln w="0">
            <a:noFill/>
          </a:ln>
        </p:spPr>
      </p:pic>
      <p:sp>
        <p:nvSpPr>
          <p:cNvPr id="212" name="円弧 214"/>
          <p:cNvSpPr/>
          <p:nvPr/>
        </p:nvSpPr>
        <p:spPr>
          <a:xfrm rot="18922800">
            <a:off x="714240" y="3855600"/>
            <a:ext cx="2165400" cy="2165400"/>
          </a:xfrm>
          <a:custGeom>
            <a:avLst/>
            <a:gdLst/>
            <a:ahLst/>
            <a:rect l="l" t="t" r="r" b="b"/>
            <a:pathLst>
              <a:path stroke="0" w="2164994" h="2164994">
                <a:moveTo>
                  <a:pt x="1073696" y="36"/>
                </a:moveTo>
                <a:cubicBezTo>
                  <a:pt x="1215005" y="-1113"/>
                  <a:pt x="1355171" y="25417"/>
                  <a:pt x="1486285" y="78129"/>
                </a:cubicBezTo>
                <a:lnTo>
                  <a:pt x="1082497" y="1082497"/>
                </a:lnTo>
                <a:cubicBezTo>
                  <a:pt x="1079563" y="721677"/>
                  <a:pt x="1076630" y="360856"/>
                  <a:pt x="1073696" y="36"/>
                </a:cubicBezTo>
                <a:close/>
              </a:path>
              <a:path fill="none" w="2164994" h="2164994">
                <a:moveTo>
                  <a:pt x="1073696" y="36"/>
                </a:moveTo>
                <a:cubicBezTo>
                  <a:pt x="1215005" y="-1113"/>
                  <a:pt x="1355171" y="25417"/>
                  <a:pt x="1486285" y="78129"/>
                </a:cubicBezTo>
              </a:path>
            </a:pathLst>
          </a:custGeom>
          <a:solidFill>
            <a:srgbClr val="c7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3" name="グループ化 215" descr=""/>
          <p:cNvPicPr/>
          <p:nvPr/>
        </p:nvPicPr>
        <p:blipFill>
          <a:blip r:embed="rId5"/>
          <a:stretch/>
        </p:blipFill>
        <p:spPr>
          <a:xfrm>
            <a:off x="785880" y="4151160"/>
            <a:ext cx="1019160" cy="798840"/>
          </a:xfrm>
          <a:prstGeom prst="rect">
            <a:avLst/>
          </a:prstGeom>
          <a:ln w="0">
            <a:noFill/>
          </a:ln>
        </p:spPr>
      </p:pic>
      <p:pic>
        <p:nvPicPr>
          <p:cNvPr id="214" name="グループ化 216" descr=""/>
          <p:cNvPicPr/>
          <p:nvPr/>
        </p:nvPicPr>
        <p:blipFill>
          <a:blip r:embed="rId6"/>
          <a:stretch/>
        </p:blipFill>
        <p:spPr>
          <a:xfrm>
            <a:off x="706320" y="4511520"/>
            <a:ext cx="1103400" cy="444600"/>
          </a:xfrm>
          <a:prstGeom prst="rect">
            <a:avLst/>
          </a:prstGeom>
          <a:ln w="0">
            <a:noFill/>
          </a:ln>
        </p:spPr>
      </p:pic>
      <p:pic>
        <p:nvPicPr>
          <p:cNvPr id="215" name="グループ化 213" descr=""/>
          <p:cNvPicPr/>
          <p:nvPr/>
        </p:nvPicPr>
        <p:blipFill>
          <a:blip r:embed="rId7"/>
          <a:stretch/>
        </p:blipFill>
        <p:spPr>
          <a:xfrm>
            <a:off x="1371600" y="3846600"/>
            <a:ext cx="438120" cy="1096920"/>
          </a:xfrm>
          <a:prstGeom prst="rect">
            <a:avLst/>
          </a:prstGeom>
          <a:ln w="0">
            <a:noFill/>
          </a:ln>
        </p:spPr>
      </p:pic>
      <p:sp>
        <p:nvSpPr>
          <p:cNvPr id="216" name="パイ 394"/>
          <p:cNvSpPr/>
          <p:nvPr/>
        </p:nvSpPr>
        <p:spPr>
          <a:xfrm rot="694800">
            <a:off x="3839760" y="4492440"/>
            <a:ext cx="2158920" cy="216036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665981" y="82509"/>
                </a:moveTo>
                <a:cubicBezTo>
                  <a:pt x="797216" y="28039"/>
                  <a:pt x="937910" y="0"/>
                  <a:pt x="1080000" y="0"/>
                </a:cubicBezTo>
                <a:lnTo>
                  <a:pt x="1080000" y="1080000"/>
                </a:lnTo>
                <a:lnTo>
                  <a:pt x="665981" y="82509"/>
                </a:lnTo>
                <a:close/>
              </a:path>
            </a:pathLst>
          </a:custGeom>
          <a:solidFill>
            <a:srgbClr val="afffff">
              <a:alpha val="70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パイ 395"/>
          <p:cNvSpPr/>
          <p:nvPr/>
        </p:nvSpPr>
        <p:spPr>
          <a:xfrm rot="694800">
            <a:off x="4258800" y="4492440"/>
            <a:ext cx="2159280" cy="216036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665981" y="82509"/>
                </a:moveTo>
                <a:cubicBezTo>
                  <a:pt x="797216" y="28039"/>
                  <a:pt x="937910" y="0"/>
                  <a:pt x="1080000" y="0"/>
                </a:cubicBezTo>
                <a:lnTo>
                  <a:pt x="1080000" y="1080000"/>
                </a:lnTo>
                <a:lnTo>
                  <a:pt x="665981" y="82509"/>
                </a:lnTo>
                <a:close/>
              </a:path>
            </a:pathLst>
          </a:custGeom>
          <a:solidFill>
            <a:srgbClr val="afffff">
              <a:alpha val="70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パイ 396"/>
          <p:cNvSpPr/>
          <p:nvPr/>
        </p:nvSpPr>
        <p:spPr>
          <a:xfrm rot="694800">
            <a:off x="4704840" y="4492440"/>
            <a:ext cx="2159280" cy="216036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665981" y="82509"/>
                </a:moveTo>
                <a:cubicBezTo>
                  <a:pt x="797216" y="28039"/>
                  <a:pt x="937910" y="0"/>
                  <a:pt x="1080000" y="0"/>
                </a:cubicBezTo>
                <a:lnTo>
                  <a:pt x="1080000" y="1080000"/>
                </a:lnTo>
                <a:lnTo>
                  <a:pt x="665981" y="82509"/>
                </a:lnTo>
                <a:close/>
              </a:path>
            </a:pathLst>
          </a:custGeom>
          <a:solidFill>
            <a:srgbClr val="afffff">
              <a:alpha val="70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パイ 397"/>
          <p:cNvSpPr/>
          <p:nvPr/>
        </p:nvSpPr>
        <p:spPr>
          <a:xfrm rot="694800">
            <a:off x="5138280" y="4492800"/>
            <a:ext cx="2160720" cy="216036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665981" y="82509"/>
                </a:moveTo>
                <a:cubicBezTo>
                  <a:pt x="797216" y="28039"/>
                  <a:pt x="937910" y="0"/>
                  <a:pt x="1080000" y="0"/>
                </a:cubicBezTo>
                <a:lnTo>
                  <a:pt x="1080000" y="1080000"/>
                </a:lnTo>
                <a:lnTo>
                  <a:pt x="665981" y="82509"/>
                </a:lnTo>
                <a:close/>
              </a:path>
            </a:pathLst>
          </a:custGeom>
          <a:solidFill>
            <a:srgbClr val="afffff">
              <a:alpha val="70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パイ 398"/>
          <p:cNvSpPr/>
          <p:nvPr/>
        </p:nvSpPr>
        <p:spPr>
          <a:xfrm rot="694800">
            <a:off x="5574960" y="4492800"/>
            <a:ext cx="2160720" cy="216036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665981" y="82509"/>
                </a:moveTo>
                <a:cubicBezTo>
                  <a:pt x="797216" y="28039"/>
                  <a:pt x="937910" y="0"/>
                  <a:pt x="1080000" y="0"/>
                </a:cubicBezTo>
                <a:lnTo>
                  <a:pt x="1080000" y="1080000"/>
                </a:lnTo>
                <a:lnTo>
                  <a:pt x="665981" y="82509"/>
                </a:lnTo>
                <a:close/>
              </a:path>
            </a:pathLst>
          </a:custGeom>
          <a:solidFill>
            <a:srgbClr val="afffff">
              <a:alpha val="70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パイ 399"/>
          <p:cNvSpPr/>
          <p:nvPr/>
        </p:nvSpPr>
        <p:spPr>
          <a:xfrm rot="694800">
            <a:off x="6016320" y="4492800"/>
            <a:ext cx="2160360" cy="216036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665981" y="82509"/>
                </a:moveTo>
                <a:cubicBezTo>
                  <a:pt x="797216" y="28039"/>
                  <a:pt x="937910" y="0"/>
                  <a:pt x="1080000" y="0"/>
                </a:cubicBezTo>
                <a:lnTo>
                  <a:pt x="1080000" y="1080000"/>
                </a:lnTo>
                <a:lnTo>
                  <a:pt x="665981" y="82509"/>
                </a:lnTo>
                <a:close/>
              </a:path>
            </a:pathLst>
          </a:custGeom>
          <a:solidFill>
            <a:srgbClr val="afffff">
              <a:alpha val="70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パイ 400"/>
          <p:cNvSpPr/>
          <p:nvPr/>
        </p:nvSpPr>
        <p:spPr>
          <a:xfrm rot="694800">
            <a:off x="6443280" y="4492800"/>
            <a:ext cx="2160720" cy="216036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665981" y="82509"/>
                </a:moveTo>
                <a:cubicBezTo>
                  <a:pt x="797216" y="28039"/>
                  <a:pt x="937910" y="0"/>
                  <a:pt x="1080000" y="0"/>
                </a:cubicBezTo>
                <a:lnTo>
                  <a:pt x="1080000" y="1080000"/>
                </a:lnTo>
                <a:lnTo>
                  <a:pt x="665981" y="82509"/>
                </a:lnTo>
                <a:close/>
              </a:path>
            </a:pathLst>
          </a:custGeom>
          <a:solidFill>
            <a:srgbClr val="afffff">
              <a:alpha val="70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パイ 401"/>
          <p:cNvSpPr/>
          <p:nvPr/>
        </p:nvSpPr>
        <p:spPr>
          <a:xfrm rot="694800">
            <a:off x="6873480" y="4492440"/>
            <a:ext cx="2158920" cy="216036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665981" y="82509"/>
                </a:moveTo>
                <a:cubicBezTo>
                  <a:pt x="797216" y="28039"/>
                  <a:pt x="937910" y="0"/>
                  <a:pt x="1080000" y="0"/>
                </a:cubicBezTo>
                <a:lnTo>
                  <a:pt x="1080000" y="1080000"/>
                </a:lnTo>
                <a:lnTo>
                  <a:pt x="665981" y="82509"/>
                </a:lnTo>
                <a:close/>
              </a:path>
            </a:pathLst>
          </a:custGeom>
          <a:solidFill>
            <a:srgbClr val="afffff">
              <a:alpha val="70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パイ 404"/>
          <p:cNvSpPr/>
          <p:nvPr/>
        </p:nvSpPr>
        <p:spPr>
          <a:xfrm rot="11494800">
            <a:off x="7092720" y="3429000"/>
            <a:ext cx="2158920" cy="216072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665981" y="82509"/>
                </a:moveTo>
                <a:cubicBezTo>
                  <a:pt x="797216" y="28039"/>
                  <a:pt x="937910" y="0"/>
                  <a:pt x="1080000" y="0"/>
                </a:cubicBezTo>
                <a:lnTo>
                  <a:pt x="1080000" y="1080000"/>
                </a:lnTo>
                <a:lnTo>
                  <a:pt x="665981" y="82509"/>
                </a:lnTo>
                <a:close/>
              </a:path>
            </a:pathLst>
          </a:custGeom>
          <a:solidFill>
            <a:srgbClr val="ffcc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パイ 405"/>
          <p:cNvSpPr/>
          <p:nvPr/>
        </p:nvSpPr>
        <p:spPr>
          <a:xfrm rot="11494800">
            <a:off x="6673680" y="3429000"/>
            <a:ext cx="2159280" cy="216072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665981" y="82509"/>
                </a:moveTo>
                <a:cubicBezTo>
                  <a:pt x="797216" y="28039"/>
                  <a:pt x="937910" y="0"/>
                  <a:pt x="1080000" y="0"/>
                </a:cubicBezTo>
                <a:lnTo>
                  <a:pt x="1080000" y="1080000"/>
                </a:lnTo>
                <a:lnTo>
                  <a:pt x="665981" y="82509"/>
                </a:lnTo>
                <a:close/>
              </a:path>
            </a:pathLst>
          </a:custGeom>
          <a:solidFill>
            <a:srgbClr val="ffcc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パイ 406"/>
          <p:cNvSpPr/>
          <p:nvPr/>
        </p:nvSpPr>
        <p:spPr>
          <a:xfrm rot="11494800">
            <a:off x="6227640" y="3429000"/>
            <a:ext cx="2159280" cy="216072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665981" y="82509"/>
                </a:moveTo>
                <a:cubicBezTo>
                  <a:pt x="797216" y="28039"/>
                  <a:pt x="937910" y="0"/>
                  <a:pt x="1080000" y="0"/>
                </a:cubicBezTo>
                <a:lnTo>
                  <a:pt x="1080000" y="1080000"/>
                </a:lnTo>
                <a:lnTo>
                  <a:pt x="665981" y="82509"/>
                </a:lnTo>
                <a:close/>
              </a:path>
            </a:pathLst>
          </a:custGeom>
          <a:solidFill>
            <a:srgbClr val="ffcc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パイ 407"/>
          <p:cNvSpPr/>
          <p:nvPr/>
        </p:nvSpPr>
        <p:spPr>
          <a:xfrm rot="11494800">
            <a:off x="5792760" y="3428640"/>
            <a:ext cx="2160720" cy="216072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665981" y="82509"/>
                </a:moveTo>
                <a:cubicBezTo>
                  <a:pt x="797216" y="28039"/>
                  <a:pt x="937910" y="0"/>
                  <a:pt x="1080000" y="0"/>
                </a:cubicBezTo>
                <a:lnTo>
                  <a:pt x="1080000" y="1080000"/>
                </a:lnTo>
                <a:lnTo>
                  <a:pt x="665981" y="82509"/>
                </a:lnTo>
                <a:close/>
              </a:path>
            </a:pathLst>
          </a:custGeom>
          <a:solidFill>
            <a:srgbClr val="ffcc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パイ 408"/>
          <p:cNvSpPr/>
          <p:nvPr/>
        </p:nvSpPr>
        <p:spPr>
          <a:xfrm rot="11494800">
            <a:off x="5356080" y="3428640"/>
            <a:ext cx="2160720" cy="216072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665981" y="82509"/>
                </a:moveTo>
                <a:cubicBezTo>
                  <a:pt x="797216" y="28039"/>
                  <a:pt x="937910" y="0"/>
                  <a:pt x="1080000" y="0"/>
                </a:cubicBezTo>
                <a:lnTo>
                  <a:pt x="1080000" y="1080000"/>
                </a:lnTo>
                <a:lnTo>
                  <a:pt x="665981" y="82509"/>
                </a:lnTo>
                <a:close/>
              </a:path>
            </a:pathLst>
          </a:custGeom>
          <a:solidFill>
            <a:srgbClr val="ffcc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パイ 409"/>
          <p:cNvSpPr/>
          <p:nvPr/>
        </p:nvSpPr>
        <p:spPr>
          <a:xfrm rot="11494800">
            <a:off x="4914720" y="3428640"/>
            <a:ext cx="2160360" cy="216072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665981" y="82509"/>
                </a:moveTo>
                <a:cubicBezTo>
                  <a:pt x="797216" y="28039"/>
                  <a:pt x="937910" y="0"/>
                  <a:pt x="1080000" y="0"/>
                </a:cubicBezTo>
                <a:lnTo>
                  <a:pt x="1080000" y="1080000"/>
                </a:lnTo>
                <a:lnTo>
                  <a:pt x="665981" y="82509"/>
                </a:lnTo>
                <a:close/>
              </a:path>
            </a:pathLst>
          </a:custGeom>
          <a:solidFill>
            <a:srgbClr val="ffcc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パイ 410"/>
          <p:cNvSpPr/>
          <p:nvPr/>
        </p:nvSpPr>
        <p:spPr>
          <a:xfrm rot="11494800">
            <a:off x="4487760" y="3428640"/>
            <a:ext cx="2160720" cy="216072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665981" y="82509"/>
                </a:moveTo>
                <a:cubicBezTo>
                  <a:pt x="797216" y="28039"/>
                  <a:pt x="937910" y="0"/>
                  <a:pt x="1080000" y="0"/>
                </a:cubicBezTo>
                <a:lnTo>
                  <a:pt x="1080000" y="1080000"/>
                </a:lnTo>
                <a:lnTo>
                  <a:pt x="665981" y="82509"/>
                </a:lnTo>
                <a:close/>
              </a:path>
            </a:pathLst>
          </a:custGeom>
          <a:solidFill>
            <a:srgbClr val="ffcc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パイ 411"/>
          <p:cNvSpPr/>
          <p:nvPr/>
        </p:nvSpPr>
        <p:spPr>
          <a:xfrm rot="11494800">
            <a:off x="4059000" y="3429000"/>
            <a:ext cx="2158920" cy="216072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665981" y="82509"/>
                </a:moveTo>
                <a:cubicBezTo>
                  <a:pt x="797216" y="28039"/>
                  <a:pt x="937910" y="0"/>
                  <a:pt x="1080000" y="0"/>
                </a:cubicBezTo>
                <a:lnTo>
                  <a:pt x="1080000" y="1080000"/>
                </a:lnTo>
                <a:lnTo>
                  <a:pt x="665981" y="82509"/>
                </a:lnTo>
                <a:close/>
              </a:path>
            </a:pathLst>
          </a:custGeom>
          <a:solidFill>
            <a:srgbClr val="ffcc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パイ 412"/>
          <p:cNvSpPr/>
          <p:nvPr/>
        </p:nvSpPr>
        <p:spPr>
          <a:xfrm>
            <a:off x="714240" y="898560"/>
            <a:ext cx="2160720" cy="215892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315755" y="316895"/>
                </a:moveTo>
                <a:cubicBezTo>
                  <a:pt x="518340" y="114007"/>
                  <a:pt x="793287" y="0"/>
                  <a:pt x="1080000" y="0"/>
                </a:cubicBezTo>
                <a:lnTo>
                  <a:pt x="1080000" y="1080000"/>
                </a:lnTo>
                <a:lnTo>
                  <a:pt x="315755" y="316895"/>
                </a:lnTo>
                <a:close/>
              </a:path>
            </a:pathLst>
          </a:custGeom>
          <a:solidFill>
            <a:srgbClr val="afffff">
              <a:alpha val="70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パイ 413"/>
          <p:cNvSpPr/>
          <p:nvPr/>
        </p:nvSpPr>
        <p:spPr>
          <a:xfrm rot="18887400">
            <a:off x="720000" y="902160"/>
            <a:ext cx="2158920" cy="216036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315755" y="316895"/>
                </a:moveTo>
                <a:cubicBezTo>
                  <a:pt x="518340" y="114007"/>
                  <a:pt x="793287" y="0"/>
                  <a:pt x="1080000" y="0"/>
                </a:cubicBezTo>
                <a:lnTo>
                  <a:pt x="1080000" y="1080000"/>
                </a:lnTo>
                <a:lnTo>
                  <a:pt x="315755" y="316895"/>
                </a:lnTo>
                <a:close/>
              </a:path>
            </a:pathLst>
          </a:custGeom>
          <a:solidFill>
            <a:srgbClr val="afffff">
              <a:alpha val="70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パイ 414"/>
          <p:cNvSpPr/>
          <p:nvPr/>
        </p:nvSpPr>
        <p:spPr>
          <a:xfrm rot="5400000">
            <a:off x="716040" y="900720"/>
            <a:ext cx="2160720" cy="215892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315755" y="316895"/>
                </a:moveTo>
                <a:cubicBezTo>
                  <a:pt x="518340" y="114007"/>
                  <a:pt x="793287" y="0"/>
                  <a:pt x="1080000" y="0"/>
                </a:cubicBezTo>
                <a:lnTo>
                  <a:pt x="1080000" y="1080000"/>
                </a:lnTo>
                <a:lnTo>
                  <a:pt x="315755" y="316895"/>
                </a:lnTo>
                <a:close/>
              </a:path>
            </a:pathLst>
          </a:custGeom>
          <a:solidFill>
            <a:srgbClr val="afffff">
              <a:alpha val="70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パイ 415"/>
          <p:cNvSpPr/>
          <p:nvPr/>
        </p:nvSpPr>
        <p:spPr>
          <a:xfrm rot="2688000">
            <a:off x="720360" y="905040"/>
            <a:ext cx="2160720" cy="216036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315755" y="316895"/>
                </a:moveTo>
                <a:cubicBezTo>
                  <a:pt x="518340" y="114007"/>
                  <a:pt x="793287" y="0"/>
                  <a:pt x="1080000" y="0"/>
                </a:cubicBezTo>
                <a:lnTo>
                  <a:pt x="1080000" y="1080000"/>
                </a:lnTo>
                <a:lnTo>
                  <a:pt x="315755" y="316895"/>
                </a:lnTo>
                <a:close/>
              </a:path>
            </a:pathLst>
          </a:custGeom>
          <a:solidFill>
            <a:srgbClr val="afffff">
              <a:alpha val="70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パイ 418"/>
          <p:cNvSpPr/>
          <p:nvPr/>
        </p:nvSpPr>
        <p:spPr>
          <a:xfrm rot="10800000">
            <a:off x="715680" y="900000"/>
            <a:ext cx="2160360" cy="216072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315755" y="316895"/>
                </a:moveTo>
                <a:cubicBezTo>
                  <a:pt x="518340" y="114007"/>
                  <a:pt x="793287" y="0"/>
                  <a:pt x="1080000" y="0"/>
                </a:cubicBezTo>
                <a:lnTo>
                  <a:pt x="1080000" y="1080000"/>
                </a:lnTo>
                <a:lnTo>
                  <a:pt x="315755" y="316895"/>
                </a:lnTo>
                <a:close/>
              </a:path>
            </a:pathLst>
          </a:custGeom>
          <a:solidFill>
            <a:srgbClr val="ffcc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パイ 419"/>
          <p:cNvSpPr/>
          <p:nvPr/>
        </p:nvSpPr>
        <p:spPr>
          <a:xfrm rot="8087400">
            <a:off x="720360" y="904680"/>
            <a:ext cx="2160360" cy="216072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315755" y="316895"/>
                </a:moveTo>
                <a:cubicBezTo>
                  <a:pt x="518340" y="114007"/>
                  <a:pt x="793287" y="0"/>
                  <a:pt x="1080000" y="0"/>
                </a:cubicBezTo>
                <a:lnTo>
                  <a:pt x="1080000" y="1080000"/>
                </a:lnTo>
                <a:lnTo>
                  <a:pt x="315755" y="316895"/>
                </a:lnTo>
                <a:close/>
              </a:path>
            </a:pathLst>
          </a:custGeom>
          <a:solidFill>
            <a:srgbClr val="ffcc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パイ 420"/>
          <p:cNvSpPr/>
          <p:nvPr/>
        </p:nvSpPr>
        <p:spPr>
          <a:xfrm rot="16200000">
            <a:off x="718200" y="908640"/>
            <a:ext cx="2160720" cy="215892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315755" y="316895"/>
                </a:moveTo>
                <a:cubicBezTo>
                  <a:pt x="518340" y="114007"/>
                  <a:pt x="793287" y="0"/>
                  <a:pt x="1080000" y="0"/>
                </a:cubicBezTo>
                <a:lnTo>
                  <a:pt x="1080000" y="1080000"/>
                </a:lnTo>
                <a:lnTo>
                  <a:pt x="315755" y="316895"/>
                </a:lnTo>
                <a:close/>
              </a:path>
            </a:pathLst>
          </a:custGeom>
          <a:solidFill>
            <a:srgbClr val="ffcc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パイ 421"/>
          <p:cNvSpPr/>
          <p:nvPr/>
        </p:nvSpPr>
        <p:spPr>
          <a:xfrm rot="13487400">
            <a:off x="713880" y="903240"/>
            <a:ext cx="2159280" cy="216072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315755" y="316895"/>
                </a:moveTo>
                <a:cubicBezTo>
                  <a:pt x="518340" y="114007"/>
                  <a:pt x="793287" y="0"/>
                  <a:pt x="1080000" y="0"/>
                </a:cubicBezTo>
                <a:lnTo>
                  <a:pt x="1080000" y="1080000"/>
                </a:lnTo>
                <a:lnTo>
                  <a:pt x="315755" y="316895"/>
                </a:lnTo>
                <a:close/>
              </a:path>
            </a:pathLst>
          </a:custGeom>
          <a:solidFill>
            <a:srgbClr val="ffcc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パイ 422"/>
          <p:cNvSpPr/>
          <p:nvPr/>
        </p:nvSpPr>
        <p:spPr>
          <a:xfrm rot="1310400">
            <a:off x="3843360" y="1454040"/>
            <a:ext cx="2158920" cy="215928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315755" y="316895"/>
                </a:moveTo>
                <a:cubicBezTo>
                  <a:pt x="518340" y="114007"/>
                  <a:pt x="793287" y="0"/>
                  <a:pt x="1080000" y="0"/>
                </a:cubicBezTo>
                <a:lnTo>
                  <a:pt x="1080000" y="1080000"/>
                </a:lnTo>
                <a:lnTo>
                  <a:pt x="315755" y="316895"/>
                </a:lnTo>
                <a:close/>
              </a:path>
            </a:pathLst>
          </a:custGeom>
          <a:solidFill>
            <a:srgbClr val="afffff">
              <a:alpha val="70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パイ 424"/>
          <p:cNvSpPr/>
          <p:nvPr/>
        </p:nvSpPr>
        <p:spPr>
          <a:xfrm rot="1310400">
            <a:off x="4681080" y="1454040"/>
            <a:ext cx="2160720" cy="215928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315755" y="316895"/>
                </a:moveTo>
                <a:cubicBezTo>
                  <a:pt x="518340" y="114007"/>
                  <a:pt x="793287" y="0"/>
                  <a:pt x="1080000" y="0"/>
                </a:cubicBezTo>
                <a:lnTo>
                  <a:pt x="1080000" y="1080000"/>
                </a:lnTo>
                <a:lnTo>
                  <a:pt x="315755" y="316895"/>
                </a:lnTo>
                <a:close/>
              </a:path>
            </a:pathLst>
          </a:custGeom>
          <a:solidFill>
            <a:srgbClr val="afffff">
              <a:alpha val="70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パイ 425"/>
          <p:cNvSpPr/>
          <p:nvPr/>
        </p:nvSpPr>
        <p:spPr>
          <a:xfrm rot="1310400">
            <a:off x="5519520" y="1453680"/>
            <a:ext cx="2160360" cy="215928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315755" y="316895"/>
                </a:moveTo>
                <a:cubicBezTo>
                  <a:pt x="518340" y="114007"/>
                  <a:pt x="793287" y="0"/>
                  <a:pt x="1080000" y="0"/>
                </a:cubicBezTo>
                <a:lnTo>
                  <a:pt x="1080000" y="1080000"/>
                </a:lnTo>
                <a:lnTo>
                  <a:pt x="315755" y="316895"/>
                </a:lnTo>
                <a:close/>
              </a:path>
            </a:pathLst>
          </a:custGeom>
          <a:solidFill>
            <a:srgbClr val="afffff">
              <a:alpha val="70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パイ 426"/>
          <p:cNvSpPr/>
          <p:nvPr/>
        </p:nvSpPr>
        <p:spPr>
          <a:xfrm rot="1310400">
            <a:off x="6359400" y="1454040"/>
            <a:ext cx="2159280" cy="215928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315755" y="316895"/>
                </a:moveTo>
                <a:cubicBezTo>
                  <a:pt x="518340" y="114007"/>
                  <a:pt x="793287" y="0"/>
                  <a:pt x="1080000" y="0"/>
                </a:cubicBezTo>
                <a:lnTo>
                  <a:pt x="1080000" y="1080000"/>
                </a:lnTo>
                <a:lnTo>
                  <a:pt x="315755" y="316895"/>
                </a:lnTo>
                <a:close/>
              </a:path>
            </a:pathLst>
          </a:custGeom>
          <a:solidFill>
            <a:srgbClr val="afffff">
              <a:alpha val="70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パイ 433"/>
          <p:cNvSpPr/>
          <p:nvPr/>
        </p:nvSpPr>
        <p:spPr>
          <a:xfrm rot="12110400">
            <a:off x="6767280" y="474480"/>
            <a:ext cx="2160360" cy="216036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315755" y="316895"/>
                </a:moveTo>
                <a:cubicBezTo>
                  <a:pt x="518340" y="114007"/>
                  <a:pt x="793287" y="0"/>
                  <a:pt x="1080000" y="0"/>
                </a:cubicBezTo>
                <a:lnTo>
                  <a:pt x="1080000" y="1080000"/>
                </a:lnTo>
                <a:lnTo>
                  <a:pt x="315755" y="316895"/>
                </a:lnTo>
                <a:close/>
              </a:path>
            </a:pathLst>
          </a:custGeom>
          <a:solidFill>
            <a:srgbClr val="ffcc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パイ 434"/>
          <p:cNvSpPr/>
          <p:nvPr/>
        </p:nvSpPr>
        <p:spPr>
          <a:xfrm rot="12110400">
            <a:off x="5929200" y="474120"/>
            <a:ext cx="2160720" cy="216036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315755" y="316895"/>
                </a:moveTo>
                <a:cubicBezTo>
                  <a:pt x="518340" y="114007"/>
                  <a:pt x="793287" y="0"/>
                  <a:pt x="1080000" y="0"/>
                </a:cubicBezTo>
                <a:lnTo>
                  <a:pt x="1080000" y="1080000"/>
                </a:lnTo>
                <a:lnTo>
                  <a:pt x="315755" y="316895"/>
                </a:lnTo>
                <a:close/>
              </a:path>
            </a:pathLst>
          </a:custGeom>
          <a:solidFill>
            <a:srgbClr val="ffcc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パイ 435"/>
          <p:cNvSpPr/>
          <p:nvPr/>
        </p:nvSpPr>
        <p:spPr>
          <a:xfrm rot="12110400">
            <a:off x="5091120" y="474120"/>
            <a:ext cx="2160720" cy="216036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315755" y="316895"/>
                </a:moveTo>
                <a:cubicBezTo>
                  <a:pt x="518340" y="114007"/>
                  <a:pt x="793287" y="0"/>
                  <a:pt x="1080000" y="0"/>
                </a:cubicBezTo>
                <a:lnTo>
                  <a:pt x="1080000" y="1080000"/>
                </a:lnTo>
                <a:lnTo>
                  <a:pt x="315755" y="316895"/>
                </a:lnTo>
                <a:close/>
              </a:path>
            </a:pathLst>
          </a:custGeom>
          <a:solidFill>
            <a:srgbClr val="ffcc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パイ 436"/>
          <p:cNvSpPr/>
          <p:nvPr/>
        </p:nvSpPr>
        <p:spPr>
          <a:xfrm rot="12110400">
            <a:off x="4252680" y="474120"/>
            <a:ext cx="2158920" cy="216036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315755" y="316895"/>
                </a:moveTo>
                <a:cubicBezTo>
                  <a:pt x="518340" y="114007"/>
                  <a:pt x="793287" y="0"/>
                  <a:pt x="1080000" y="0"/>
                </a:cubicBezTo>
                <a:lnTo>
                  <a:pt x="1080000" y="1080000"/>
                </a:lnTo>
                <a:lnTo>
                  <a:pt x="315755" y="316895"/>
                </a:lnTo>
                <a:close/>
              </a:path>
            </a:pathLst>
          </a:custGeom>
          <a:solidFill>
            <a:srgbClr val="ffcc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9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500"/>
                            </p:stCondLst>
                            <p:childTnLst>
                              <p:par>
                                <p:cTn id="4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1000"/>
                            </p:stCondLst>
                            <p:childTnLst>
                              <p:par>
                                <p:cTn id="45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1500"/>
                            </p:stCondLst>
                            <p:childTnLst>
                              <p:par>
                                <p:cTn id="4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2000"/>
                            </p:stCondLst>
                            <p:childTnLst>
                              <p:par>
                                <p:cTn id="46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2500"/>
                            </p:stCondLst>
                            <p:childTnLst>
                              <p:par>
                                <p:cTn id="47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3000"/>
                            </p:stCondLst>
                            <p:childTnLst>
                              <p:par>
                                <p:cTn id="4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3500"/>
                            </p:stCondLst>
                            <p:childTnLst>
                              <p:par>
                                <p:cTn id="4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fill="hold">
                            <p:stCondLst>
                              <p:cond delay="4000"/>
                            </p:stCondLst>
                            <p:childTnLst>
                              <p:par>
                                <p:cTn id="4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4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500"/>
                            </p:stCondLst>
                            <p:childTnLst>
                              <p:par>
                                <p:cTn id="496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25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25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750"/>
                            </p:stCondLst>
                            <p:childTnLst>
                              <p:par>
                                <p:cTn id="501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25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25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1000"/>
                            </p:stCondLst>
                            <p:childTnLst>
                              <p:par>
                                <p:cTn id="506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25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25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1250"/>
                            </p:stCondLst>
                            <p:childTnLst>
                              <p:par>
                                <p:cTn id="511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25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25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1500"/>
                            </p:stCondLst>
                            <p:childTnLst>
                              <p:par>
                                <p:cTn id="516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25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25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1750"/>
                            </p:stCondLst>
                            <p:childTnLst>
                              <p:par>
                                <p:cTn id="521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25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25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2000"/>
                            </p:stCondLst>
                            <p:childTnLst>
                              <p:par>
                                <p:cTn id="526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25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25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2250"/>
                            </p:stCondLst>
                            <p:childTnLst>
                              <p:par>
                                <p:cTn id="531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25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25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2500"/>
                            </p:stCondLst>
                            <p:childTnLst>
                              <p:par>
                                <p:cTn id="536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25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25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fill="hold">
                            <p:stCondLst>
                              <p:cond delay="2750"/>
                            </p:stCondLst>
                            <p:childTnLst>
                              <p:par>
                                <p:cTn id="541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25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25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fill="hold">
                            <p:stCondLst>
                              <p:cond delay="3000"/>
                            </p:stCondLst>
                            <p:childTnLst>
                              <p:par>
                                <p:cTn id="546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25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25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fill="hold">
                            <p:stCondLst>
                              <p:cond delay="3250"/>
                            </p:stCondLst>
                            <p:childTnLst>
                              <p:par>
                                <p:cTn id="551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25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25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fill="hold">
                            <p:stCondLst>
                              <p:cond delay="3500"/>
                            </p:stCondLst>
                            <p:childTnLst>
                              <p:par>
                                <p:cTn id="556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8" dur="25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9" dur="25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3750"/>
                            </p:stCondLst>
                            <p:childTnLst>
                              <p:par>
                                <p:cTn id="561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25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25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fill="hold">
                            <p:stCondLst>
                              <p:cond delay="4000"/>
                            </p:stCondLst>
                            <p:childTnLst>
                              <p:par>
                                <p:cTn id="566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25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25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fill="hold">
                            <p:stCondLst>
                              <p:cond delay="4250"/>
                            </p:stCondLst>
                            <p:childTnLst>
                              <p:par>
                                <p:cTn id="571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25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25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8" name="グループ化 4"/>
          <p:cNvGrpSpPr/>
          <p:nvPr/>
        </p:nvGrpSpPr>
        <p:grpSpPr>
          <a:xfrm>
            <a:off x="242280" y="-43200"/>
            <a:ext cx="3072240" cy="3081240"/>
            <a:chOff x="242280" y="-43200"/>
            <a:chExt cx="3072240" cy="3081240"/>
          </a:xfrm>
        </p:grpSpPr>
        <p:sp>
          <p:nvSpPr>
            <p:cNvPr id="249" name="直線コネクタ 150"/>
            <p:cNvSpPr/>
            <p:nvPr/>
          </p:nvSpPr>
          <p:spPr>
            <a:xfrm flipH="1" flipV="1">
              <a:off x="1774440" y="1481760"/>
              <a:ext cx="410400" cy="1005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0" name="直線コネクタ 151"/>
            <p:cNvSpPr/>
            <p:nvPr/>
          </p:nvSpPr>
          <p:spPr>
            <a:xfrm flipH="1" flipV="1">
              <a:off x="1793160" y="1516320"/>
              <a:ext cx="752760" cy="750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51" name="グループ化 152"/>
            <p:cNvGrpSpPr/>
            <p:nvPr/>
          </p:nvGrpSpPr>
          <p:grpSpPr>
            <a:xfrm>
              <a:off x="242280" y="-43200"/>
              <a:ext cx="3072240" cy="3076920"/>
              <a:chOff x="242280" y="-43200"/>
              <a:chExt cx="3072240" cy="3076920"/>
            </a:xfrm>
          </p:grpSpPr>
          <p:grpSp>
            <p:nvGrpSpPr>
              <p:cNvPr id="252" name="グループ化 153"/>
              <p:cNvGrpSpPr/>
              <p:nvPr/>
            </p:nvGrpSpPr>
            <p:grpSpPr>
              <a:xfrm>
                <a:off x="363600" y="84960"/>
                <a:ext cx="2825280" cy="2828160"/>
                <a:chOff x="363600" y="84960"/>
                <a:chExt cx="2825280" cy="2828160"/>
              </a:xfrm>
            </p:grpSpPr>
            <p:sp>
              <p:nvSpPr>
                <p:cNvPr id="253" name="円弧 239"/>
                <p:cNvSpPr/>
                <p:nvPr/>
              </p:nvSpPr>
              <p:spPr>
                <a:xfrm rot="14878200">
                  <a:off x="689400" y="414720"/>
                  <a:ext cx="2173680" cy="2168280"/>
                </a:xfrm>
                <a:custGeom>
                  <a:avLst/>
                  <a:gdLst/>
                  <a:ahLst/>
                  <a:rect l="l" t="t" r="r" b="b"/>
                  <a:pathLst>
                    <a:path stroke="0" w="2164994" h="2164994">
                      <a:moveTo>
                        <a:pt x="1073696" y="36"/>
                      </a:moveTo>
                      <a:cubicBezTo>
                        <a:pt x="1215005" y="-1113"/>
                        <a:pt x="1355171" y="25417"/>
                        <a:pt x="1486285" y="78129"/>
                      </a:cubicBezTo>
                      <a:lnTo>
                        <a:pt x="1082497" y="1082497"/>
                      </a:lnTo>
                      <a:cubicBezTo>
                        <a:pt x="1079563" y="721677"/>
                        <a:pt x="1076630" y="360856"/>
                        <a:pt x="1073696" y="36"/>
                      </a:cubicBezTo>
                      <a:close/>
                    </a:path>
                    <a:path fill="none" w="2164994" h="2164994">
                      <a:moveTo>
                        <a:pt x="1073696" y="36"/>
                      </a:moveTo>
                      <a:cubicBezTo>
                        <a:pt x="1215005" y="-1113"/>
                        <a:pt x="1355171" y="25417"/>
                        <a:pt x="1486285" y="78129"/>
                      </a:cubicBezTo>
                    </a:path>
                  </a:pathLst>
                </a:custGeom>
                <a:solidFill>
                  <a:srgbClr val="ffccff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4" name="直線コネクタ 240"/>
                <p:cNvSpPr/>
                <p:nvPr/>
              </p:nvSpPr>
              <p:spPr>
                <a:xfrm>
                  <a:off x="683280" y="1500840"/>
                  <a:ext cx="1085760" cy="72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5" name="直線コネクタ 241"/>
                <p:cNvSpPr/>
                <p:nvPr/>
              </p:nvSpPr>
              <p:spPr>
                <a:xfrm flipV="1">
                  <a:off x="760320" y="1506960"/>
                  <a:ext cx="979920" cy="4075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56" name="グループ化 154"/>
              <p:cNvGrpSpPr/>
              <p:nvPr/>
            </p:nvGrpSpPr>
            <p:grpSpPr>
              <a:xfrm>
                <a:off x="244440" y="-36360"/>
                <a:ext cx="3070080" cy="3070080"/>
                <a:chOff x="244440" y="-36360"/>
                <a:chExt cx="3070080" cy="3070080"/>
              </a:xfrm>
            </p:grpSpPr>
            <p:sp>
              <p:nvSpPr>
                <p:cNvPr id="257" name="円弧 192"/>
                <p:cNvSpPr/>
                <p:nvPr/>
              </p:nvSpPr>
              <p:spPr>
                <a:xfrm rot="13522200">
                  <a:off x="692640" y="414360"/>
                  <a:ext cx="2173680" cy="2168280"/>
                </a:xfrm>
                <a:custGeom>
                  <a:avLst/>
                  <a:gdLst/>
                  <a:ahLst/>
                  <a:rect l="l" t="t" r="r" b="b"/>
                  <a:pathLst>
                    <a:path stroke="0" w="2164994" h="2164994">
                      <a:moveTo>
                        <a:pt x="1073696" y="36"/>
                      </a:moveTo>
                      <a:cubicBezTo>
                        <a:pt x="1215005" y="-1113"/>
                        <a:pt x="1355171" y="25417"/>
                        <a:pt x="1486285" y="78129"/>
                      </a:cubicBezTo>
                      <a:lnTo>
                        <a:pt x="1082497" y="1082497"/>
                      </a:lnTo>
                      <a:cubicBezTo>
                        <a:pt x="1079563" y="721677"/>
                        <a:pt x="1076630" y="360856"/>
                        <a:pt x="1073696" y="36"/>
                      </a:cubicBezTo>
                      <a:close/>
                    </a:path>
                    <a:path fill="none" w="2164994" h="2164994">
                      <a:moveTo>
                        <a:pt x="1073696" y="36"/>
                      </a:moveTo>
                      <a:cubicBezTo>
                        <a:pt x="1215005" y="-1113"/>
                        <a:pt x="1355171" y="25417"/>
                        <a:pt x="1486285" y="78129"/>
                      </a:cubicBezTo>
                    </a:path>
                  </a:pathLst>
                </a:custGeom>
                <a:solidFill>
                  <a:srgbClr val="ffccff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8" name="直線コネクタ 208"/>
                <p:cNvSpPr/>
                <p:nvPr/>
              </p:nvSpPr>
              <p:spPr>
                <a:xfrm flipV="1">
                  <a:off x="776520" y="1500120"/>
                  <a:ext cx="1004400" cy="410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9" name="直線コネクタ 238"/>
                <p:cNvSpPr/>
                <p:nvPr/>
              </p:nvSpPr>
              <p:spPr>
                <a:xfrm flipV="1">
                  <a:off x="1005840" y="1515240"/>
                  <a:ext cx="748080" cy="752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60" name="グループ化 155"/>
              <p:cNvGrpSpPr/>
              <p:nvPr/>
            </p:nvGrpSpPr>
            <p:grpSpPr>
              <a:xfrm>
                <a:off x="358200" y="68760"/>
                <a:ext cx="2842920" cy="2845440"/>
                <a:chOff x="358200" y="68760"/>
                <a:chExt cx="2842920" cy="2845440"/>
              </a:xfrm>
            </p:grpSpPr>
            <p:sp>
              <p:nvSpPr>
                <p:cNvPr id="261" name="円弧 175"/>
                <p:cNvSpPr/>
                <p:nvPr/>
              </p:nvSpPr>
              <p:spPr>
                <a:xfrm rot="12172200">
                  <a:off x="695520" y="404280"/>
                  <a:ext cx="2168280" cy="2173680"/>
                </a:xfrm>
                <a:custGeom>
                  <a:avLst/>
                  <a:gdLst/>
                  <a:ahLst/>
                  <a:rect l="l" t="t" r="r" b="b"/>
                  <a:pathLst>
                    <a:path stroke="0" w="2164994" h="2164994">
                      <a:moveTo>
                        <a:pt x="1073696" y="36"/>
                      </a:moveTo>
                      <a:cubicBezTo>
                        <a:pt x="1215005" y="-1113"/>
                        <a:pt x="1355171" y="25417"/>
                        <a:pt x="1486285" y="78129"/>
                      </a:cubicBezTo>
                      <a:lnTo>
                        <a:pt x="1082497" y="1082497"/>
                      </a:lnTo>
                      <a:cubicBezTo>
                        <a:pt x="1079563" y="721677"/>
                        <a:pt x="1076630" y="360856"/>
                        <a:pt x="1073696" y="36"/>
                      </a:cubicBezTo>
                      <a:close/>
                    </a:path>
                    <a:path fill="none" w="2164994" h="2164994">
                      <a:moveTo>
                        <a:pt x="1073696" y="36"/>
                      </a:moveTo>
                      <a:cubicBezTo>
                        <a:pt x="1215005" y="-1113"/>
                        <a:pt x="1355171" y="25417"/>
                        <a:pt x="1486285" y="78129"/>
                      </a:cubicBezTo>
                    </a:path>
                  </a:pathLst>
                </a:custGeom>
                <a:solidFill>
                  <a:srgbClr val="ffccff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62" name="直線コネクタ 189"/>
                <p:cNvSpPr/>
                <p:nvPr/>
              </p:nvSpPr>
              <p:spPr>
                <a:xfrm flipV="1">
                  <a:off x="1019160" y="1488960"/>
                  <a:ext cx="769320" cy="7657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63" name="直線コネクタ 190"/>
                <p:cNvSpPr/>
                <p:nvPr/>
              </p:nvSpPr>
              <p:spPr>
                <a:xfrm flipV="1">
                  <a:off x="1354680" y="1523160"/>
                  <a:ext cx="405360" cy="982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64" name="グループ化 156"/>
              <p:cNvGrpSpPr/>
              <p:nvPr/>
            </p:nvGrpSpPr>
            <p:grpSpPr>
              <a:xfrm>
                <a:off x="681480" y="391320"/>
                <a:ext cx="2199960" cy="2205360"/>
                <a:chOff x="681480" y="391320"/>
                <a:chExt cx="2199960" cy="2205360"/>
              </a:xfrm>
            </p:grpSpPr>
            <p:sp>
              <p:nvSpPr>
                <p:cNvPr id="265" name="円弧 172"/>
                <p:cNvSpPr/>
                <p:nvPr/>
              </p:nvSpPr>
              <p:spPr>
                <a:xfrm rot="10850400">
                  <a:off x="696960" y="407160"/>
                  <a:ext cx="2168280" cy="2173680"/>
                </a:xfrm>
                <a:custGeom>
                  <a:avLst/>
                  <a:gdLst/>
                  <a:ahLst/>
                  <a:rect l="l" t="t" r="r" b="b"/>
                  <a:pathLst>
                    <a:path stroke="0" w="2164994" h="2164994">
                      <a:moveTo>
                        <a:pt x="1073696" y="36"/>
                      </a:moveTo>
                      <a:cubicBezTo>
                        <a:pt x="1215005" y="-1113"/>
                        <a:pt x="1355171" y="25417"/>
                        <a:pt x="1486285" y="78129"/>
                      </a:cubicBezTo>
                      <a:lnTo>
                        <a:pt x="1082497" y="1082497"/>
                      </a:lnTo>
                      <a:cubicBezTo>
                        <a:pt x="1079563" y="721677"/>
                        <a:pt x="1076630" y="360856"/>
                        <a:pt x="1073696" y="36"/>
                      </a:cubicBezTo>
                      <a:close/>
                    </a:path>
                    <a:path fill="none" w="2164994" h="2164994">
                      <a:moveTo>
                        <a:pt x="1073696" y="36"/>
                      </a:moveTo>
                      <a:cubicBezTo>
                        <a:pt x="1215005" y="-1113"/>
                        <a:pt x="1355171" y="25417"/>
                        <a:pt x="1486285" y="78129"/>
                      </a:cubicBezTo>
                    </a:path>
                  </a:pathLst>
                </a:custGeom>
                <a:solidFill>
                  <a:srgbClr val="ffccff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66" name="直線コネクタ 173"/>
                <p:cNvSpPr/>
                <p:nvPr/>
              </p:nvSpPr>
              <p:spPr>
                <a:xfrm flipV="1">
                  <a:off x="1349640" y="1498320"/>
                  <a:ext cx="425880" cy="9986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67" name="直線コネクタ 174"/>
                <p:cNvSpPr/>
                <p:nvPr/>
              </p:nvSpPr>
              <p:spPr>
                <a:xfrm flipV="1">
                  <a:off x="1767960" y="1523880"/>
                  <a:ext cx="6840" cy="10630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68" name="グループ化 157"/>
              <p:cNvGrpSpPr/>
              <p:nvPr/>
            </p:nvGrpSpPr>
            <p:grpSpPr>
              <a:xfrm>
                <a:off x="365040" y="81000"/>
                <a:ext cx="2825280" cy="2828160"/>
                <a:chOff x="365040" y="81000"/>
                <a:chExt cx="2825280" cy="2828160"/>
              </a:xfrm>
            </p:grpSpPr>
            <p:sp>
              <p:nvSpPr>
                <p:cNvPr id="269" name="円弧 169"/>
                <p:cNvSpPr/>
                <p:nvPr/>
              </p:nvSpPr>
              <p:spPr>
                <a:xfrm rot="9478200">
                  <a:off x="693360" y="408240"/>
                  <a:ext cx="2168280" cy="2173680"/>
                </a:xfrm>
                <a:custGeom>
                  <a:avLst/>
                  <a:gdLst/>
                  <a:ahLst/>
                  <a:rect l="l" t="t" r="r" b="b"/>
                  <a:pathLst>
                    <a:path stroke="0" w="2164994" h="2164994">
                      <a:moveTo>
                        <a:pt x="1073696" y="36"/>
                      </a:moveTo>
                      <a:cubicBezTo>
                        <a:pt x="1215005" y="-1113"/>
                        <a:pt x="1355171" y="25417"/>
                        <a:pt x="1486285" y="78129"/>
                      </a:cubicBezTo>
                      <a:lnTo>
                        <a:pt x="1082497" y="1082497"/>
                      </a:lnTo>
                      <a:cubicBezTo>
                        <a:pt x="1079563" y="721677"/>
                        <a:pt x="1076630" y="360856"/>
                        <a:pt x="1073696" y="36"/>
                      </a:cubicBezTo>
                      <a:close/>
                    </a:path>
                    <a:path fill="none" w="2164994" h="2164994">
                      <a:moveTo>
                        <a:pt x="1073696" y="36"/>
                      </a:moveTo>
                      <a:cubicBezTo>
                        <a:pt x="1215005" y="-1113"/>
                        <a:pt x="1355171" y="25417"/>
                        <a:pt x="1486285" y="78129"/>
                      </a:cubicBezTo>
                    </a:path>
                  </a:pathLst>
                </a:custGeom>
                <a:solidFill>
                  <a:srgbClr val="ffccff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70" name="直線コネクタ 170"/>
                <p:cNvSpPr/>
                <p:nvPr/>
              </p:nvSpPr>
              <p:spPr>
                <a:xfrm flipV="1">
                  <a:off x="1771560" y="1504080"/>
                  <a:ext cx="4320" cy="10854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71" name="直線コネクタ 171"/>
                <p:cNvSpPr/>
                <p:nvPr/>
              </p:nvSpPr>
              <p:spPr>
                <a:xfrm flipH="1" flipV="1">
                  <a:off x="1785960" y="1517040"/>
                  <a:ext cx="406800" cy="982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272" name="円弧 158"/>
              <p:cNvSpPr/>
              <p:nvPr/>
            </p:nvSpPr>
            <p:spPr>
              <a:xfrm rot="8122800">
                <a:off x="693000" y="405000"/>
                <a:ext cx="2168280" cy="2173680"/>
              </a:xfrm>
              <a:custGeom>
                <a:avLst/>
                <a:gdLst/>
                <a:ahLst/>
                <a:rect l="l" t="t" r="r" b="b"/>
                <a:pathLst>
                  <a:path stroke="0" w="2164994" h="2164994">
                    <a:moveTo>
                      <a:pt x="1073696" y="36"/>
                    </a:moveTo>
                    <a:cubicBezTo>
                      <a:pt x="1215005" y="-1113"/>
                      <a:pt x="1355171" y="25417"/>
                      <a:pt x="1486285" y="78129"/>
                    </a:cubicBezTo>
                    <a:lnTo>
                      <a:pt x="1082497" y="1082497"/>
                    </a:lnTo>
                    <a:cubicBezTo>
                      <a:pt x="1079563" y="721677"/>
                      <a:pt x="1076630" y="360856"/>
                      <a:pt x="1073696" y="36"/>
                    </a:cubicBezTo>
                    <a:close/>
                  </a:path>
                  <a:path fill="none" w="2164994" h="2164994">
                    <a:moveTo>
                      <a:pt x="1073696" y="36"/>
                    </a:moveTo>
                    <a:cubicBezTo>
                      <a:pt x="1215005" y="-1113"/>
                      <a:pt x="1355171" y="25417"/>
                      <a:pt x="1486285" y="78129"/>
                    </a:cubicBezTo>
                  </a:path>
                </a:pathLst>
              </a:custGeom>
              <a:solidFill>
                <a:srgbClr val="ffcc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273" name="グループ化 159"/>
              <p:cNvGrpSpPr/>
              <p:nvPr/>
            </p:nvGrpSpPr>
            <p:grpSpPr>
              <a:xfrm>
                <a:off x="351360" y="75600"/>
                <a:ext cx="2837160" cy="2840040"/>
                <a:chOff x="351360" y="75600"/>
                <a:chExt cx="2837160" cy="2840040"/>
              </a:xfrm>
            </p:grpSpPr>
            <p:sp>
              <p:nvSpPr>
                <p:cNvPr id="274" name="円弧 165"/>
                <p:cNvSpPr/>
                <p:nvPr/>
              </p:nvSpPr>
              <p:spPr>
                <a:xfrm rot="6756000">
                  <a:off x="682920" y="411480"/>
                  <a:ext cx="2173680" cy="2168280"/>
                </a:xfrm>
                <a:custGeom>
                  <a:avLst/>
                  <a:gdLst/>
                  <a:ahLst/>
                  <a:rect l="l" t="t" r="r" b="b"/>
                  <a:pathLst>
                    <a:path stroke="0" w="2164994" h="2164994">
                      <a:moveTo>
                        <a:pt x="1073696" y="36"/>
                      </a:moveTo>
                      <a:cubicBezTo>
                        <a:pt x="1215005" y="-1113"/>
                        <a:pt x="1355171" y="25417"/>
                        <a:pt x="1486285" y="78129"/>
                      </a:cubicBezTo>
                      <a:lnTo>
                        <a:pt x="1082497" y="1082497"/>
                      </a:lnTo>
                      <a:cubicBezTo>
                        <a:pt x="1079563" y="721677"/>
                        <a:pt x="1076630" y="360856"/>
                        <a:pt x="1073696" y="36"/>
                      </a:cubicBezTo>
                      <a:close/>
                    </a:path>
                    <a:path fill="none" w="2164994" h="2164994">
                      <a:moveTo>
                        <a:pt x="1073696" y="36"/>
                      </a:moveTo>
                      <a:cubicBezTo>
                        <a:pt x="1215005" y="-1113"/>
                        <a:pt x="1355171" y="25417"/>
                        <a:pt x="1486285" y="78129"/>
                      </a:cubicBezTo>
                    </a:path>
                  </a:pathLst>
                </a:custGeom>
                <a:solidFill>
                  <a:srgbClr val="ffccff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75" name="直線コネクタ 166"/>
                <p:cNvSpPr/>
                <p:nvPr/>
              </p:nvSpPr>
              <p:spPr>
                <a:xfrm flipH="1" flipV="1">
                  <a:off x="1781640" y="1494720"/>
                  <a:ext cx="767520" cy="7675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76" name="直線コネクタ 167"/>
                <p:cNvSpPr/>
                <p:nvPr/>
              </p:nvSpPr>
              <p:spPr>
                <a:xfrm flipH="1" flipV="1">
                  <a:off x="1801440" y="1515600"/>
                  <a:ext cx="983520" cy="398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77" name="グループ化 160"/>
              <p:cNvGrpSpPr/>
              <p:nvPr/>
            </p:nvGrpSpPr>
            <p:grpSpPr>
              <a:xfrm>
                <a:off x="678600" y="411840"/>
                <a:ext cx="2180520" cy="2184480"/>
                <a:chOff x="678600" y="411840"/>
                <a:chExt cx="2180520" cy="2184480"/>
              </a:xfrm>
            </p:grpSpPr>
            <p:sp>
              <p:nvSpPr>
                <p:cNvPr id="278" name="円弧 161"/>
                <p:cNvSpPr/>
                <p:nvPr/>
              </p:nvSpPr>
              <p:spPr>
                <a:xfrm rot="5383200">
                  <a:off x="681120" y="419760"/>
                  <a:ext cx="2173680" cy="2168280"/>
                </a:xfrm>
                <a:custGeom>
                  <a:avLst/>
                  <a:gdLst/>
                  <a:ahLst/>
                  <a:rect l="l" t="t" r="r" b="b"/>
                  <a:pathLst>
                    <a:path stroke="0" w="2164994" h="2164994">
                      <a:moveTo>
                        <a:pt x="1073696" y="36"/>
                      </a:moveTo>
                      <a:cubicBezTo>
                        <a:pt x="1215005" y="-1113"/>
                        <a:pt x="1355171" y="25417"/>
                        <a:pt x="1486285" y="78129"/>
                      </a:cubicBezTo>
                      <a:lnTo>
                        <a:pt x="1082497" y="1082497"/>
                      </a:lnTo>
                      <a:cubicBezTo>
                        <a:pt x="1079563" y="721677"/>
                        <a:pt x="1076630" y="360856"/>
                        <a:pt x="1073696" y="36"/>
                      </a:cubicBezTo>
                      <a:close/>
                    </a:path>
                    <a:path fill="none" w="2164994" h="2164994">
                      <a:moveTo>
                        <a:pt x="1073696" y="36"/>
                      </a:moveTo>
                      <a:cubicBezTo>
                        <a:pt x="1215005" y="-1113"/>
                        <a:pt x="1355171" y="25417"/>
                        <a:pt x="1486285" y="78129"/>
                      </a:cubicBezTo>
                    </a:path>
                  </a:pathLst>
                </a:custGeom>
                <a:solidFill>
                  <a:srgbClr val="ffccff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79" name="直線コネクタ 162"/>
                <p:cNvSpPr/>
                <p:nvPr/>
              </p:nvSpPr>
              <p:spPr>
                <a:xfrm flipH="1" flipV="1">
                  <a:off x="1762200" y="1498680"/>
                  <a:ext cx="1005480" cy="408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80" name="直線コネクタ 163"/>
                <p:cNvSpPr/>
                <p:nvPr/>
              </p:nvSpPr>
              <p:spPr>
                <a:xfrm flipH="1">
                  <a:off x="1798200" y="1494720"/>
                  <a:ext cx="1060920" cy="154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pic>
          <p:nvPicPr>
            <p:cNvPr id="281" name="グループ化 242" descr=""/>
            <p:cNvPicPr/>
            <p:nvPr/>
          </p:nvPicPr>
          <p:blipFill>
            <a:blip r:embed="rId1"/>
            <a:stretch/>
          </p:blipFill>
          <p:spPr>
            <a:xfrm>
              <a:off x="1759680" y="1075320"/>
              <a:ext cx="1098720" cy="446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2" name="グループ化 246" descr=""/>
            <p:cNvPicPr/>
            <p:nvPr/>
          </p:nvPicPr>
          <p:blipFill>
            <a:blip r:embed="rId2"/>
            <a:stretch/>
          </p:blipFill>
          <p:spPr>
            <a:xfrm>
              <a:off x="1747440" y="720360"/>
              <a:ext cx="1025640" cy="795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3" name="グループ化 250" descr=""/>
            <p:cNvPicPr/>
            <p:nvPr/>
          </p:nvPicPr>
          <p:blipFill>
            <a:blip r:embed="rId3"/>
            <a:stretch/>
          </p:blipFill>
          <p:spPr>
            <a:xfrm>
              <a:off x="1753560" y="481680"/>
              <a:ext cx="787320" cy="1034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4" name="グループ化 254" descr=""/>
            <p:cNvPicPr/>
            <p:nvPr/>
          </p:nvPicPr>
          <p:blipFill>
            <a:blip r:embed="rId4"/>
            <a:stretch/>
          </p:blipFill>
          <p:spPr>
            <a:xfrm>
              <a:off x="1759680" y="408240"/>
              <a:ext cx="445680" cy="110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5" name="円弧 258"/>
            <p:cNvSpPr/>
            <p:nvPr/>
          </p:nvSpPr>
          <p:spPr>
            <a:xfrm rot="18922800">
              <a:off x="693720" y="415800"/>
              <a:ext cx="2168280" cy="2173680"/>
            </a:xfrm>
            <a:custGeom>
              <a:avLst/>
              <a:gdLst/>
              <a:ahLst/>
              <a:rect l="l" t="t" r="r" b="b"/>
              <a:pathLst>
                <a:path stroke="0" w="2164994" h="2164994">
                  <a:moveTo>
                    <a:pt x="1073696" y="36"/>
                  </a:moveTo>
                  <a:cubicBezTo>
                    <a:pt x="1215005" y="-1113"/>
                    <a:pt x="1355171" y="25417"/>
                    <a:pt x="1486285" y="78129"/>
                  </a:cubicBezTo>
                  <a:lnTo>
                    <a:pt x="1082497" y="1082497"/>
                  </a:lnTo>
                  <a:cubicBezTo>
                    <a:pt x="1079563" y="721677"/>
                    <a:pt x="1076630" y="360856"/>
                    <a:pt x="1073696" y="36"/>
                  </a:cubicBezTo>
                  <a:close/>
                </a:path>
                <a:path fill="none" w="2164994" h="2164994">
                  <a:moveTo>
                    <a:pt x="1073696" y="36"/>
                  </a:moveTo>
                  <a:cubicBezTo>
                    <a:pt x="1215005" y="-1113"/>
                    <a:pt x="1355171" y="25417"/>
                    <a:pt x="1486285" y="78129"/>
                  </a:cubicBezTo>
                </a:path>
              </a:pathLst>
            </a:custGeom>
            <a:solidFill>
              <a:srgbClr val="c7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86" name="グループ化 259" descr=""/>
            <p:cNvPicPr/>
            <p:nvPr/>
          </p:nvPicPr>
          <p:blipFill>
            <a:blip r:embed="rId5"/>
            <a:stretch/>
          </p:blipFill>
          <p:spPr>
            <a:xfrm>
              <a:off x="764280" y="714240"/>
              <a:ext cx="1019520" cy="801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7" name="グループ化 263" descr=""/>
            <p:cNvPicPr/>
            <p:nvPr/>
          </p:nvPicPr>
          <p:blipFill>
            <a:blip r:embed="rId6"/>
            <a:stretch/>
          </p:blipFill>
          <p:spPr>
            <a:xfrm>
              <a:off x="684720" y="1075320"/>
              <a:ext cx="1104840" cy="446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8" name="グループ化 267" descr=""/>
            <p:cNvPicPr/>
            <p:nvPr/>
          </p:nvPicPr>
          <p:blipFill>
            <a:blip r:embed="rId7"/>
            <a:stretch/>
          </p:blipFill>
          <p:spPr>
            <a:xfrm>
              <a:off x="1350360" y="408240"/>
              <a:ext cx="439560" cy="11016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89" name="グループ化 271" descr=""/>
          <p:cNvPicPr/>
          <p:nvPr/>
        </p:nvPicPr>
        <p:blipFill>
          <a:blip r:embed="rId8"/>
          <a:stretch/>
        </p:blipFill>
        <p:spPr>
          <a:xfrm>
            <a:off x="682560" y="407880"/>
            <a:ext cx="2183040" cy="2176560"/>
          </a:xfrm>
          <a:prstGeom prst="rect">
            <a:avLst/>
          </a:prstGeom>
          <a:ln w="0">
            <a:noFill/>
          </a:ln>
        </p:spPr>
      </p:pic>
      <p:pic>
        <p:nvPicPr>
          <p:cNvPr id="290" name="グループ化 333" descr=""/>
          <p:cNvPicPr/>
          <p:nvPr/>
        </p:nvPicPr>
        <p:blipFill>
          <a:blip r:embed="rId9"/>
          <a:stretch/>
        </p:blipFill>
        <p:spPr>
          <a:xfrm>
            <a:off x="682560" y="401760"/>
            <a:ext cx="2189160" cy="2189160"/>
          </a:xfrm>
          <a:prstGeom prst="rect">
            <a:avLst/>
          </a:prstGeom>
          <a:ln w="0">
            <a:noFill/>
          </a:ln>
        </p:spPr>
      </p:pic>
      <p:pic>
        <p:nvPicPr>
          <p:cNvPr id="291" name="グループ化 403" descr=""/>
          <p:cNvPicPr/>
          <p:nvPr/>
        </p:nvPicPr>
        <p:blipFill>
          <a:blip r:embed="rId10"/>
          <a:stretch/>
        </p:blipFill>
        <p:spPr>
          <a:xfrm>
            <a:off x="682560" y="401760"/>
            <a:ext cx="2189160" cy="2189160"/>
          </a:xfrm>
          <a:prstGeom prst="rect">
            <a:avLst/>
          </a:prstGeom>
          <a:ln w="0">
            <a:noFill/>
          </a:ln>
        </p:spPr>
      </p:pic>
      <p:sp>
        <p:nvSpPr>
          <p:cNvPr id="292" name="右矢印 489"/>
          <p:cNvSpPr/>
          <p:nvPr/>
        </p:nvSpPr>
        <p:spPr>
          <a:xfrm>
            <a:off x="3232080" y="1292400"/>
            <a:ext cx="647640" cy="431640"/>
          </a:xfrm>
          <a:prstGeom prst="rightArrow">
            <a:avLst>
              <a:gd name="adj1" fmla="val 50000"/>
              <a:gd name="adj2" fmla="val 50014"/>
            </a:avLst>
          </a:prstGeom>
          <a:solidFill>
            <a:srgbClr val="ff0000">
              <a:alpha val="70000"/>
            </a:srgbClr>
          </a:solidFill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パイ 5"/>
          <p:cNvSpPr/>
          <p:nvPr/>
        </p:nvSpPr>
        <p:spPr>
          <a:xfrm rot="336000">
            <a:off x="3338640" y="880920"/>
            <a:ext cx="2160360" cy="215928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863435" y="21936"/>
                </a:moveTo>
                <a:cubicBezTo>
                  <a:pt x="934700" y="7349"/>
                  <a:pt x="1007257" y="0"/>
                  <a:pt x="1080000" y="0"/>
                </a:cubicBezTo>
                <a:lnTo>
                  <a:pt x="1080000" y="1080000"/>
                </a:lnTo>
                <a:lnTo>
                  <a:pt x="863435" y="21936"/>
                </a:lnTo>
                <a:close/>
              </a:path>
            </a:pathLst>
          </a:custGeom>
          <a:solidFill>
            <a:srgbClr val="afffff">
              <a:alpha val="70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パイ 490"/>
          <p:cNvSpPr/>
          <p:nvPr/>
        </p:nvSpPr>
        <p:spPr>
          <a:xfrm rot="336000">
            <a:off x="3564000" y="880920"/>
            <a:ext cx="2158920" cy="215928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863435" y="21936"/>
                </a:moveTo>
                <a:cubicBezTo>
                  <a:pt x="934700" y="7349"/>
                  <a:pt x="1007257" y="0"/>
                  <a:pt x="1080000" y="0"/>
                </a:cubicBezTo>
                <a:lnTo>
                  <a:pt x="1080000" y="1080000"/>
                </a:lnTo>
                <a:lnTo>
                  <a:pt x="863435" y="21936"/>
                </a:lnTo>
                <a:close/>
              </a:path>
            </a:pathLst>
          </a:custGeom>
          <a:solidFill>
            <a:srgbClr val="afffff">
              <a:alpha val="70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パイ 491"/>
          <p:cNvSpPr/>
          <p:nvPr/>
        </p:nvSpPr>
        <p:spPr>
          <a:xfrm rot="336000">
            <a:off x="3787920" y="880920"/>
            <a:ext cx="2158920" cy="215928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863435" y="21936"/>
                </a:moveTo>
                <a:cubicBezTo>
                  <a:pt x="934700" y="7349"/>
                  <a:pt x="1007257" y="0"/>
                  <a:pt x="1080000" y="0"/>
                </a:cubicBezTo>
                <a:lnTo>
                  <a:pt x="1080000" y="1080000"/>
                </a:lnTo>
                <a:lnTo>
                  <a:pt x="863435" y="21936"/>
                </a:lnTo>
                <a:close/>
              </a:path>
            </a:pathLst>
          </a:custGeom>
          <a:solidFill>
            <a:srgbClr val="afffff">
              <a:alpha val="70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パイ 492"/>
          <p:cNvSpPr/>
          <p:nvPr/>
        </p:nvSpPr>
        <p:spPr>
          <a:xfrm rot="336000">
            <a:off x="4011480" y="880560"/>
            <a:ext cx="2160720" cy="215928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863435" y="21936"/>
                </a:moveTo>
                <a:cubicBezTo>
                  <a:pt x="934700" y="7349"/>
                  <a:pt x="1007257" y="0"/>
                  <a:pt x="1080000" y="0"/>
                </a:cubicBezTo>
                <a:lnTo>
                  <a:pt x="1080000" y="1080000"/>
                </a:lnTo>
                <a:lnTo>
                  <a:pt x="863435" y="21936"/>
                </a:lnTo>
                <a:close/>
              </a:path>
            </a:pathLst>
          </a:custGeom>
          <a:solidFill>
            <a:srgbClr val="afffff">
              <a:alpha val="70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パイ 493"/>
          <p:cNvSpPr/>
          <p:nvPr/>
        </p:nvSpPr>
        <p:spPr>
          <a:xfrm rot="336000">
            <a:off x="4235400" y="880560"/>
            <a:ext cx="2160720" cy="215928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863435" y="21936"/>
                </a:moveTo>
                <a:cubicBezTo>
                  <a:pt x="934700" y="7349"/>
                  <a:pt x="1007257" y="0"/>
                  <a:pt x="1080000" y="0"/>
                </a:cubicBezTo>
                <a:lnTo>
                  <a:pt x="1080000" y="1080000"/>
                </a:lnTo>
                <a:lnTo>
                  <a:pt x="863435" y="21936"/>
                </a:lnTo>
                <a:close/>
              </a:path>
            </a:pathLst>
          </a:custGeom>
          <a:solidFill>
            <a:srgbClr val="afffff">
              <a:alpha val="70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パイ 496"/>
          <p:cNvSpPr/>
          <p:nvPr/>
        </p:nvSpPr>
        <p:spPr>
          <a:xfrm rot="336000">
            <a:off x="4460760" y="880920"/>
            <a:ext cx="2159280" cy="215928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863435" y="21936"/>
                </a:moveTo>
                <a:cubicBezTo>
                  <a:pt x="934700" y="7349"/>
                  <a:pt x="1007257" y="0"/>
                  <a:pt x="1080000" y="0"/>
                </a:cubicBezTo>
                <a:lnTo>
                  <a:pt x="1080000" y="1080000"/>
                </a:lnTo>
                <a:lnTo>
                  <a:pt x="863435" y="21936"/>
                </a:lnTo>
                <a:close/>
              </a:path>
            </a:pathLst>
          </a:custGeom>
          <a:solidFill>
            <a:srgbClr val="afffff">
              <a:alpha val="70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パイ 497"/>
          <p:cNvSpPr/>
          <p:nvPr/>
        </p:nvSpPr>
        <p:spPr>
          <a:xfrm rot="336000">
            <a:off x="4684680" y="880560"/>
            <a:ext cx="2160720" cy="215928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863435" y="21936"/>
                </a:moveTo>
                <a:cubicBezTo>
                  <a:pt x="934700" y="7349"/>
                  <a:pt x="1007257" y="0"/>
                  <a:pt x="1080000" y="0"/>
                </a:cubicBezTo>
                <a:lnTo>
                  <a:pt x="1080000" y="1080000"/>
                </a:lnTo>
                <a:lnTo>
                  <a:pt x="863435" y="21936"/>
                </a:lnTo>
                <a:close/>
              </a:path>
            </a:pathLst>
          </a:custGeom>
          <a:solidFill>
            <a:srgbClr val="afffff">
              <a:alpha val="70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パイ 498"/>
          <p:cNvSpPr/>
          <p:nvPr/>
        </p:nvSpPr>
        <p:spPr>
          <a:xfrm rot="336000">
            <a:off x="4908600" y="880920"/>
            <a:ext cx="2160360" cy="215928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863435" y="21936"/>
                </a:moveTo>
                <a:cubicBezTo>
                  <a:pt x="934700" y="7349"/>
                  <a:pt x="1007257" y="0"/>
                  <a:pt x="1080000" y="0"/>
                </a:cubicBezTo>
                <a:lnTo>
                  <a:pt x="1080000" y="1080000"/>
                </a:lnTo>
                <a:lnTo>
                  <a:pt x="863435" y="21936"/>
                </a:lnTo>
                <a:close/>
              </a:path>
            </a:pathLst>
          </a:custGeom>
          <a:solidFill>
            <a:srgbClr val="afffff">
              <a:alpha val="70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パイ 499"/>
          <p:cNvSpPr/>
          <p:nvPr/>
        </p:nvSpPr>
        <p:spPr>
          <a:xfrm rot="336000">
            <a:off x="5132520" y="880920"/>
            <a:ext cx="2160360" cy="215928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863435" y="21936"/>
                </a:moveTo>
                <a:cubicBezTo>
                  <a:pt x="934700" y="7349"/>
                  <a:pt x="1007257" y="0"/>
                  <a:pt x="1080000" y="0"/>
                </a:cubicBezTo>
                <a:lnTo>
                  <a:pt x="1080000" y="1080000"/>
                </a:lnTo>
                <a:lnTo>
                  <a:pt x="863435" y="21936"/>
                </a:lnTo>
                <a:close/>
              </a:path>
            </a:pathLst>
          </a:custGeom>
          <a:solidFill>
            <a:srgbClr val="afffff">
              <a:alpha val="70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パイ 500"/>
          <p:cNvSpPr/>
          <p:nvPr/>
        </p:nvSpPr>
        <p:spPr>
          <a:xfrm rot="336000">
            <a:off x="5357880" y="880920"/>
            <a:ext cx="2158920" cy="215928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863435" y="21936"/>
                </a:moveTo>
                <a:cubicBezTo>
                  <a:pt x="934700" y="7349"/>
                  <a:pt x="1007257" y="0"/>
                  <a:pt x="1080000" y="0"/>
                </a:cubicBezTo>
                <a:lnTo>
                  <a:pt x="1080000" y="1080000"/>
                </a:lnTo>
                <a:lnTo>
                  <a:pt x="863435" y="21936"/>
                </a:lnTo>
                <a:close/>
              </a:path>
            </a:pathLst>
          </a:custGeom>
          <a:solidFill>
            <a:srgbClr val="afffff">
              <a:alpha val="70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パイ 501"/>
          <p:cNvSpPr/>
          <p:nvPr/>
        </p:nvSpPr>
        <p:spPr>
          <a:xfrm rot="336000">
            <a:off x="5581800" y="880920"/>
            <a:ext cx="2160360" cy="215928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863435" y="21936"/>
                </a:moveTo>
                <a:cubicBezTo>
                  <a:pt x="934700" y="7349"/>
                  <a:pt x="1007257" y="0"/>
                  <a:pt x="1080000" y="0"/>
                </a:cubicBezTo>
                <a:lnTo>
                  <a:pt x="1080000" y="1080000"/>
                </a:lnTo>
                <a:lnTo>
                  <a:pt x="863435" y="21936"/>
                </a:lnTo>
                <a:close/>
              </a:path>
            </a:pathLst>
          </a:custGeom>
          <a:solidFill>
            <a:srgbClr val="afffff">
              <a:alpha val="70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パイ 502"/>
          <p:cNvSpPr/>
          <p:nvPr/>
        </p:nvSpPr>
        <p:spPr>
          <a:xfrm rot="336000">
            <a:off x="5805360" y="880560"/>
            <a:ext cx="2160720" cy="215928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863435" y="21936"/>
                </a:moveTo>
                <a:cubicBezTo>
                  <a:pt x="934700" y="7349"/>
                  <a:pt x="1007257" y="0"/>
                  <a:pt x="1080000" y="0"/>
                </a:cubicBezTo>
                <a:lnTo>
                  <a:pt x="1080000" y="1080000"/>
                </a:lnTo>
                <a:lnTo>
                  <a:pt x="863435" y="21936"/>
                </a:lnTo>
                <a:close/>
              </a:path>
            </a:pathLst>
          </a:custGeom>
          <a:solidFill>
            <a:srgbClr val="afffff">
              <a:alpha val="70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パイ 503"/>
          <p:cNvSpPr/>
          <p:nvPr/>
        </p:nvSpPr>
        <p:spPr>
          <a:xfrm rot="336000">
            <a:off x="6031080" y="880920"/>
            <a:ext cx="2158920" cy="215928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863435" y="21936"/>
                </a:moveTo>
                <a:cubicBezTo>
                  <a:pt x="934700" y="7349"/>
                  <a:pt x="1007257" y="0"/>
                  <a:pt x="1080000" y="0"/>
                </a:cubicBezTo>
                <a:lnTo>
                  <a:pt x="1080000" y="1080000"/>
                </a:lnTo>
                <a:lnTo>
                  <a:pt x="863435" y="21936"/>
                </a:lnTo>
                <a:close/>
              </a:path>
            </a:pathLst>
          </a:custGeom>
          <a:solidFill>
            <a:srgbClr val="afffff">
              <a:alpha val="70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パイ 504"/>
          <p:cNvSpPr/>
          <p:nvPr/>
        </p:nvSpPr>
        <p:spPr>
          <a:xfrm rot="336000">
            <a:off x="6254640" y="880560"/>
            <a:ext cx="2160720" cy="215928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863435" y="21936"/>
                </a:moveTo>
                <a:cubicBezTo>
                  <a:pt x="934700" y="7349"/>
                  <a:pt x="1007257" y="0"/>
                  <a:pt x="1080000" y="0"/>
                </a:cubicBezTo>
                <a:lnTo>
                  <a:pt x="1080000" y="1080000"/>
                </a:lnTo>
                <a:lnTo>
                  <a:pt x="863435" y="21936"/>
                </a:lnTo>
                <a:close/>
              </a:path>
            </a:pathLst>
          </a:custGeom>
          <a:solidFill>
            <a:srgbClr val="afffff">
              <a:alpha val="70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パイ 505"/>
          <p:cNvSpPr/>
          <p:nvPr/>
        </p:nvSpPr>
        <p:spPr>
          <a:xfrm rot="336000">
            <a:off x="6478560" y="880560"/>
            <a:ext cx="2160720" cy="215928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863435" y="21936"/>
                </a:moveTo>
                <a:cubicBezTo>
                  <a:pt x="934700" y="7349"/>
                  <a:pt x="1007257" y="0"/>
                  <a:pt x="1080000" y="0"/>
                </a:cubicBezTo>
                <a:lnTo>
                  <a:pt x="1080000" y="1080000"/>
                </a:lnTo>
                <a:lnTo>
                  <a:pt x="863435" y="21936"/>
                </a:lnTo>
                <a:close/>
              </a:path>
            </a:pathLst>
          </a:custGeom>
          <a:solidFill>
            <a:srgbClr val="afffff">
              <a:alpha val="70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パイ 506"/>
          <p:cNvSpPr/>
          <p:nvPr/>
        </p:nvSpPr>
        <p:spPr>
          <a:xfrm rot="336000">
            <a:off x="6702480" y="880920"/>
            <a:ext cx="2160360" cy="215928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863435" y="21936"/>
                </a:moveTo>
                <a:cubicBezTo>
                  <a:pt x="934700" y="7349"/>
                  <a:pt x="1007257" y="0"/>
                  <a:pt x="1080000" y="0"/>
                </a:cubicBezTo>
                <a:lnTo>
                  <a:pt x="1080000" y="1080000"/>
                </a:lnTo>
                <a:lnTo>
                  <a:pt x="863435" y="21936"/>
                </a:lnTo>
                <a:close/>
              </a:path>
            </a:pathLst>
          </a:custGeom>
          <a:solidFill>
            <a:srgbClr val="afffff">
              <a:alpha val="70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パイ 508"/>
          <p:cNvSpPr/>
          <p:nvPr/>
        </p:nvSpPr>
        <p:spPr>
          <a:xfrm rot="11136000">
            <a:off x="6808320" y="-201600"/>
            <a:ext cx="2160720" cy="215892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863435" y="21936"/>
                </a:moveTo>
                <a:cubicBezTo>
                  <a:pt x="934700" y="7349"/>
                  <a:pt x="1007257" y="0"/>
                  <a:pt x="1080000" y="0"/>
                </a:cubicBezTo>
                <a:lnTo>
                  <a:pt x="1080000" y="1080000"/>
                </a:lnTo>
                <a:lnTo>
                  <a:pt x="863435" y="21936"/>
                </a:lnTo>
                <a:close/>
              </a:path>
            </a:pathLst>
          </a:custGeom>
          <a:solidFill>
            <a:srgbClr val="ffcc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パイ 509"/>
          <p:cNvSpPr/>
          <p:nvPr/>
        </p:nvSpPr>
        <p:spPr>
          <a:xfrm rot="11136000">
            <a:off x="6584400" y="-201960"/>
            <a:ext cx="2158920" cy="215892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863435" y="21936"/>
                </a:moveTo>
                <a:cubicBezTo>
                  <a:pt x="934700" y="7349"/>
                  <a:pt x="1007257" y="0"/>
                  <a:pt x="1080000" y="0"/>
                </a:cubicBezTo>
                <a:lnTo>
                  <a:pt x="1080000" y="1080000"/>
                </a:lnTo>
                <a:lnTo>
                  <a:pt x="863435" y="21936"/>
                </a:lnTo>
                <a:close/>
              </a:path>
            </a:pathLst>
          </a:custGeom>
          <a:solidFill>
            <a:srgbClr val="ffcc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パイ 510"/>
          <p:cNvSpPr/>
          <p:nvPr/>
        </p:nvSpPr>
        <p:spPr>
          <a:xfrm rot="11136000">
            <a:off x="6360480" y="-201960"/>
            <a:ext cx="2158920" cy="215892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863435" y="21936"/>
                </a:moveTo>
                <a:cubicBezTo>
                  <a:pt x="934700" y="7349"/>
                  <a:pt x="1007257" y="0"/>
                  <a:pt x="1080000" y="0"/>
                </a:cubicBezTo>
                <a:lnTo>
                  <a:pt x="1080000" y="1080000"/>
                </a:lnTo>
                <a:lnTo>
                  <a:pt x="863435" y="21936"/>
                </a:lnTo>
                <a:close/>
              </a:path>
            </a:pathLst>
          </a:custGeom>
          <a:solidFill>
            <a:srgbClr val="ffcc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パイ 511"/>
          <p:cNvSpPr/>
          <p:nvPr/>
        </p:nvSpPr>
        <p:spPr>
          <a:xfrm rot="11136000">
            <a:off x="6135120" y="-201960"/>
            <a:ext cx="2160360" cy="215892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863435" y="21936"/>
                </a:moveTo>
                <a:cubicBezTo>
                  <a:pt x="934700" y="7349"/>
                  <a:pt x="1007257" y="0"/>
                  <a:pt x="1080000" y="0"/>
                </a:cubicBezTo>
                <a:lnTo>
                  <a:pt x="1080000" y="1080000"/>
                </a:lnTo>
                <a:lnTo>
                  <a:pt x="863435" y="21936"/>
                </a:lnTo>
                <a:close/>
              </a:path>
            </a:pathLst>
          </a:custGeom>
          <a:solidFill>
            <a:srgbClr val="ffcc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パイ 512"/>
          <p:cNvSpPr/>
          <p:nvPr/>
        </p:nvSpPr>
        <p:spPr>
          <a:xfrm rot="11136000">
            <a:off x="5911200" y="-201960"/>
            <a:ext cx="2160360" cy="215892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863435" y="21936"/>
                </a:moveTo>
                <a:cubicBezTo>
                  <a:pt x="934700" y="7349"/>
                  <a:pt x="1007257" y="0"/>
                  <a:pt x="1080000" y="0"/>
                </a:cubicBezTo>
                <a:lnTo>
                  <a:pt x="1080000" y="1080000"/>
                </a:lnTo>
                <a:lnTo>
                  <a:pt x="863435" y="21936"/>
                </a:lnTo>
                <a:close/>
              </a:path>
            </a:pathLst>
          </a:custGeom>
          <a:solidFill>
            <a:srgbClr val="ffcc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パイ 513"/>
          <p:cNvSpPr/>
          <p:nvPr/>
        </p:nvSpPr>
        <p:spPr>
          <a:xfrm rot="11136000">
            <a:off x="5687280" y="-201960"/>
            <a:ext cx="2158920" cy="215892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863435" y="21936"/>
                </a:moveTo>
                <a:cubicBezTo>
                  <a:pt x="934700" y="7349"/>
                  <a:pt x="1007257" y="0"/>
                  <a:pt x="1080000" y="0"/>
                </a:cubicBezTo>
                <a:lnTo>
                  <a:pt x="1080000" y="1080000"/>
                </a:lnTo>
                <a:lnTo>
                  <a:pt x="863435" y="21936"/>
                </a:lnTo>
                <a:close/>
              </a:path>
            </a:pathLst>
          </a:custGeom>
          <a:solidFill>
            <a:srgbClr val="ffcc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パイ 514"/>
          <p:cNvSpPr/>
          <p:nvPr/>
        </p:nvSpPr>
        <p:spPr>
          <a:xfrm rot="11136000">
            <a:off x="5461920" y="-201960"/>
            <a:ext cx="2160360" cy="215892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863435" y="21936"/>
                </a:moveTo>
                <a:cubicBezTo>
                  <a:pt x="934700" y="7349"/>
                  <a:pt x="1007257" y="0"/>
                  <a:pt x="1080000" y="0"/>
                </a:cubicBezTo>
                <a:lnTo>
                  <a:pt x="1080000" y="1080000"/>
                </a:lnTo>
                <a:lnTo>
                  <a:pt x="863435" y="21936"/>
                </a:lnTo>
                <a:close/>
              </a:path>
            </a:pathLst>
          </a:custGeom>
          <a:solidFill>
            <a:srgbClr val="ffcc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パイ 515"/>
          <p:cNvSpPr/>
          <p:nvPr/>
        </p:nvSpPr>
        <p:spPr>
          <a:xfrm rot="11136000">
            <a:off x="5238360" y="-201600"/>
            <a:ext cx="2160720" cy="215892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863435" y="21936"/>
                </a:moveTo>
                <a:cubicBezTo>
                  <a:pt x="934700" y="7349"/>
                  <a:pt x="1007257" y="0"/>
                  <a:pt x="1080000" y="0"/>
                </a:cubicBezTo>
                <a:lnTo>
                  <a:pt x="1080000" y="1080000"/>
                </a:lnTo>
                <a:lnTo>
                  <a:pt x="863435" y="21936"/>
                </a:lnTo>
                <a:close/>
              </a:path>
            </a:pathLst>
          </a:custGeom>
          <a:solidFill>
            <a:srgbClr val="ffcc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パイ 516"/>
          <p:cNvSpPr/>
          <p:nvPr/>
        </p:nvSpPr>
        <p:spPr>
          <a:xfrm rot="11136000">
            <a:off x="5014440" y="-201960"/>
            <a:ext cx="2159280" cy="215892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863435" y="21936"/>
                </a:moveTo>
                <a:cubicBezTo>
                  <a:pt x="934700" y="7349"/>
                  <a:pt x="1007257" y="0"/>
                  <a:pt x="1080000" y="0"/>
                </a:cubicBezTo>
                <a:lnTo>
                  <a:pt x="1080000" y="1080000"/>
                </a:lnTo>
                <a:lnTo>
                  <a:pt x="863435" y="21936"/>
                </a:lnTo>
                <a:close/>
              </a:path>
            </a:pathLst>
          </a:custGeom>
          <a:solidFill>
            <a:srgbClr val="ffcc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パイ 517"/>
          <p:cNvSpPr/>
          <p:nvPr/>
        </p:nvSpPr>
        <p:spPr>
          <a:xfrm rot="11136000">
            <a:off x="4790520" y="-201960"/>
            <a:ext cx="2158920" cy="215892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863435" y="21936"/>
                </a:moveTo>
                <a:cubicBezTo>
                  <a:pt x="934700" y="7349"/>
                  <a:pt x="1007257" y="0"/>
                  <a:pt x="1080000" y="0"/>
                </a:cubicBezTo>
                <a:lnTo>
                  <a:pt x="1080000" y="1080000"/>
                </a:lnTo>
                <a:lnTo>
                  <a:pt x="863435" y="21936"/>
                </a:lnTo>
                <a:close/>
              </a:path>
            </a:pathLst>
          </a:custGeom>
          <a:solidFill>
            <a:srgbClr val="ffcc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パイ 518"/>
          <p:cNvSpPr/>
          <p:nvPr/>
        </p:nvSpPr>
        <p:spPr>
          <a:xfrm rot="11136000">
            <a:off x="4565160" y="-201600"/>
            <a:ext cx="2160720" cy="215892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863435" y="21936"/>
                </a:moveTo>
                <a:cubicBezTo>
                  <a:pt x="934700" y="7349"/>
                  <a:pt x="1007257" y="0"/>
                  <a:pt x="1080000" y="0"/>
                </a:cubicBezTo>
                <a:lnTo>
                  <a:pt x="1080000" y="1080000"/>
                </a:lnTo>
                <a:lnTo>
                  <a:pt x="863435" y="21936"/>
                </a:lnTo>
                <a:close/>
              </a:path>
            </a:pathLst>
          </a:custGeom>
          <a:solidFill>
            <a:srgbClr val="ffcc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パイ 519"/>
          <p:cNvSpPr/>
          <p:nvPr/>
        </p:nvSpPr>
        <p:spPr>
          <a:xfrm rot="11136000">
            <a:off x="4341240" y="-201960"/>
            <a:ext cx="2160360" cy="215892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863435" y="21936"/>
                </a:moveTo>
                <a:cubicBezTo>
                  <a:pt x="934700" y="7349"/>
                  <a:pt x="1007257" y="0"/>
                  <a:pt x="1080000" y="0"/>
                </a:cubicBezTo>
                <a:lnTo>
                  <a:pt x="1080000" y="1080000"/>
                </a:lnTo>
                <a:lnTo>
                  <a:pt x="863435" y="21936"/>
                </a:lnTo>
                <a:close/>
              </a:path>
            </a:pathLst>
          </a:custGeom>
          <a:solidFill>
            <a:srgbClr val="ffcc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パイ 520"/>
          <p:cNvSpPr/>
          <p:nvPr/>
        </p:nvSpPr>
        <p:spPr>
          <a:xfrm rot="11136000">
            <a:off x="4117320" y="-201960"/>
            <a:ext cx="2158920" cy="215892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863435" y="21936"/>
                </a:moveTo>
                <a:cubicBezTo>
                  <a:pt x="934700" y="7349"/>
                  <a:pt x="1007257" y="0"/>
                  <a:pt x="1080000" y="0"/>
                </a:cubicBezTo>
                <a:lnTo>
                  <a:pt x="1080000" y="1080000"/>
                </a:lnTo>
                <a:lnTo>
                  <a:pt x="863435" y="21936"/>
                </a:lnTo>
                <a:close/>
              </a:path>
            </a:pathLst>
          </a:custGeom>
          <a:solidFill>
            <a:srgbClr val="ffcc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パイ 521"/>
          <p:cNvSpPr/>
          <p:nvPr/>
        </p:nvSpPr>
        <p:spPr>
          <a:xfrm rot="11136000">
            <a:off x="3891960" y="-201960"/>
            <a:ext cx="2160360" cy="215892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863435" y="21936"/>
                </a:moveTo>
                <a:cubicBezTo>
                  <a:pt x="934700" y="7349"/>
                  <a:pt x="1007257" y="0"/>
                  <a:pt x="1080000" y="0"/>
                </a:cubicBezTo>
                <a:lnTo>
                  <a:pt x="1080000" y="1080000"/>
                </a:lnTo>
                <a:lnTo>
                  <a:pt x="863435" y="21936"/>
                </a:lnTo>
                <a:close/>
              </a:path>
            </a:pathLst>
          </a:custGeom>
          <a:solidFill>
            <a:srgbClr val="ffcc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パイ 522"/>
          <p:cNvSpPr/>
          <p:nvPr/>
        </p:nvSpPr>
        <p:spPr>
          <a:xfrm rot="11136000">
            <a:off x="3668400" y="-201600"/>
            <a:ext cx="2160720" cy="215892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863435" y="21936"/>
                </a:moveTo>
                <a:cubicBezTo>
                  <a:pt x="934700" y="7349"/>
                  <a:pt x="1007257" y="0"/>
                  <a:pt x="1080000" y="0"/>
                </a:cubicBezTo>
                <a:lnTo>
                  <a:pt x="1080000" y="1080000"/>
                </a:lnTo>
                <a:lnTo>
                  <a:pt x="863435" y="21936"/>
                </a:lnTo>
                <a:close/>
              </a:path>
            </a:pathLst>
          </a:custGeom>
          <a:solidFill>
            <a:srgbClr val="ffcc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パイ 523"/>
          <p:cNvSpPr/>
          <p:nvPr/>
        </p:nvSpPr>
        <p:spPr>
          <a:xfrm rot="11136000">
            <a:off x="3444480" y="-201600"/>
            <a:ext cx="2160720" cy="215892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863435" y="21936"/>
                </a:moveTo>
                <a:cubicBezTo>
                  <a:pt x="934700" y="7349"/>
                  <a:pt x="1007257" y="0"/>
                  <a:pt x="1080000" y="0"/>
                </a:cubicBezTo>
                <a:lnTo>
                  <a:pt x="1080000" y="1080000"/>
                </a:lnTo>
                <a:lnTo>
                  <a:pt x="863435" y="21936"/>
                </a:lnTo>
                <a:close/>
              </a:path>
            </a:pathLst>
          </a:custGeom>
          <a:solidFill>
            <a:srgbClr val="ffcc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正方形/長方形 7"/>
          <p:cNvSpPr/>
          <p:nvPr/>
        </p:nvSpPr>
        <p:spPr>
          <a:xfrm>
            <a:off x="4413240" y="3260880"/>
            <a:ext cx="3598920" cy="1039680"/>
          </a:xfrm>
          <a:prstGeom prst="rect">
            <a:avLst/>
          </a:prstGeom>
          <a:solidFill>
            <a:srgbClr val="00b0f0">
              <a:alpha val="70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テキスト ボックス 524"/>
          <p:cNvSpPr/>
          <p:nvPr/>
        </p:nvSpPr>
        <p:spPr>
          <a:xfrm>
            <a:off x="3895560" y="2050920"/>
            <a:ext cx="508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円をどんどん細かく等分していくと、並べかえた形は長方形に近づいていくと考えられます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円弧 525"/>
          <p:cNvSpPr/>
          <p:nvPr/>
        </p:nvSpPr>
        <p:spPr>
          <a:xfrm rot="16200000">
            <a:off x="5702040" y="-885960"/>
            <a:ext cx="777960" cy="3549600"/>
          </a:xfrm>
          <a:custGeom>
            <a:avLst/>
            <a:gdLst/>
            <a:ahLst/>
            <a:rect l="l" t="t" r="r" b="b"/>
            <a:pathLst>
              <a:path stroke="0" w="776909" h="3550931">
                <a:moveTo>
                  <a:pt x="388454" y="0"/>
                </a:moveTo>
                <a:cubicBezTo>
                  <a:pt x="602854" y="0"/>
                  <a:pt x="776715" y="793923"/>
                  <a:pt x="776909" y="1773857"/>
                </a:cubicBezTo>
                <a:cubicBezTo>
                  <a:pt x="777098" y="2728901"/>
                  <a:pt x="611959" y="3513520"/>
                  <a:pt x="403154" y="3549661"/>
                </a:cubicBezTo>
                <a:lnTo>
                  <a:pt x="388455" y="1775466"/>
                </a:lnTo>
                <a:cubicBezTo>
                  <a:pt x="388455" y="1183644"/>
                  <a:pt x="388454" y="591822"/>
                  <a:pt x="388454" y="0"/>
                </a:cubicBezTo>
                <a:close/>
              </a:path>
              <a:path fill="none" w="776909" h="3550931">
                <a:moveTo>
                  <a:pt x="388454" y="0"/>
                </a:moveTo>
                <a:cubicBezTo>
                  <a:pt x="602854" y="0"/>
                  <a:pt x="776715" y="793923"/>
                  <a:pt x="776909" y="1773857"/>
                </a:cubicBezTo>
                <a:cubicBezTo>
                  <a:pt x="777098" y="2728901"/>
                  <a:pt x="611959" y="3513520"/>
                  <a:pt x="403154" y="3549661"/>
                </a:cubicBez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テキスト ボックス 526"/>
          <p:cNvSpPr/>
          <p:nvPr/>
        </p:nvSpPr>
        <p:spPr>
          <a:xfrm>
            <a:off x="5332320" y="299880"/>
            <a:ext cx="1568520" cy="36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円周の半分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円弧 527"/>
          <p:cNvSpPr/>
          <p:nvPr/>
        </p:nvSpPr>
        <p:spPr>
          <a:xfrm>
            <a:off x="7672320" y="900000"/>
            <a:ext cx="604800" cy="1025640"/>
          </a:xfrm>
          <a:custGeom>
            <a:avLst/>
            <a:gdLst/>
            <a:ahLst/>
            <a:rect l="l" t="t" r="r" b="b"/>
            <a:pathLst>
              <a:path stroke="0" w="605762" h="1025884">
                <a:moveTo>
                  <a:pt x="302881" y="0"/>
                </a:moveTo>
                <a:cubicBezTo>
                  <a:pt x="469868" y="0"/>
                  <a:pt x="605353" y="228888"/>
                  <a:pt x="605761" y="511687"/>
                </a:cubicBezTo>
                <a:cubicBezTo>
                  <a:pt x="606167" y="792658"/>
                  <a:pt x="473022" y="1021891"/>
                  <a:pt x="307130" y="1025833"/>
                </a:cubicBezTo>
                <a:cubicBezTo>
                  <a:pt x="305714" y="854869"/>
                  <a:pt x="304297" y="683906"/>
                  <a:pt x="302881" y="512942"/>
                </a:cubicBezTo>
                <a:lnTo>
                  <a:pt x="302881" y="0"/>
                </a:lnTo>
                <a:close/>
              </a:path>
              <a:path fill="none" w="605762" h="1025884">
                <a:moveTo>
                  <a:pt x="302881" y="0"/>
                </a:moveTo>
                <a:cubicBezTo>
                  <a:pt x="469868" y="0"/>
                  <a:pt x="605353" y="228888"/>
                  <a:pt x="605761" y="511687"/>
                </a:cubicBezTo>
                <a:cubicBezTo>
                  <a:pt x="606167" y="792658"/>
                  <a:pt x="473022" y="1021891"/>
                  <a:pt x="307130" y="1025833"/>
                </a:cubicBez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テキスト ボックス 528"/>
          <p:cNvSpPr/>
          <p:nvPr/>
        </p:nvSpPr>
        <p:spPr>
          <a:xfrm>
            <a:off x="8089920" y="1255680"/>
            <a:ext cx="703080" cy="36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半径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円弧 529"/>
          <p:cNvSpPr/>
          <p:nvPr/>
        </p:nvSpPr>
        <p:spPr>
          <a:xfrm>
            <a:off x="7707240" y="3276720"/>
            <a:ext cx="604800" cy="1025280"/>
          </a:xfrm>
          <a:custGeom>
            <a:avLst/>
            <a:gdLst/>
            <a:ahLst/>
            <a:rect l="l" t="t" r="r" b="b"/>
            <a:pathLst>
              <a:path stroke="0" w="605762" h="1025884">
                <a:moveTo>
                  <a:pt x="302881" y="0"/>
                </a:moveTo>
                <a:cubicBezTo>
                  <a:pt x="469868" y="0"/>
                  <a:pt x="605353" y="228888"/>
                  <a:pt x="605761" y="511687"/>
                </a:cubicBezTo>
                <a:cubicBezTo>
                  <a:pt x="606167" y="792658"/>
                  <a:pt x="473022" y="1021891"/>
                  <a:pt x="307130" y="1025833"/>
                </a:cubicBezTo>
                <a:cubicBezTo>
                  <a:pt x="305714" y="854869"/>
                  <a:pt x="304297" y="683906"/>
                  <a:pt x="302881" y="512942"/>
                </a:cubicBezTo>
                <a:lnTo>
                  <a:pt x="302881" y="0"/>
                </a:lnTo>
                <a:close/>
              </a:path>
              <a:path fill="none" w="605762" h="1025884">
                <a:moveTo>
                  <a:pt x="302881" y="0"/>
                </a:moveTo>
                <a:cubicBezTo>
                  <a:pt x="469868" y="0"/>
                  <a:pt x="605353" y="228888"/>
                  <a:pt x="605761" y="511687"/>
                </a:cubicBezTo>
                <a:cubicBezTo>
                  <a:pt x="606167" y="792658"/>
                  <a:pt x="473022" y="1021891"/>
                  <a:pt x="307130" y="1025833"/>
                </a:cubicBez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テキスト ボックス 530"/>
          <p:cNvSpPr/>
          <p:nvPr/>
        </p:nvSpPr>
        <p:spPr>
          <a:xfrm>
            <a:off x="8124840" y="3648240"/>
            <a:ext cx="390600" cy="36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円弧 531"/>
          <p:cNvSpPr/>
          <p:nvPr/>
        </p:nvSpPr>
        <p:spPr>
          <a:xfrm rot="16200000">
            <a:off x="5824440" y="1522080"/>
            <a:ext cx="776160" cy="3551400"/>
          </a:xfrm>
          <a:custGeom>
            <a:avLst/>
            <a:gdLst/>
            <a:ahLst/>
            <a:rect l="l" t="t" r="r" b="b"/>
            <a:pathLst>
              <a:path stroke="0" w="776909" h="3550931">
                <a:moveTo>
                  <a:pt x="388454" y="0"/>
                </a:moveTo>
                <a:cubicBezTo>
                  <a:pt x="602854" y="0"/>
                  <a:pt x="776715" y="793923"/>
                  <a:pt x="776909" y="1773857"/>
                </a:cubicBezTo>
                <a:cubicBezTo>
                  <a:pt x="777098" y="2728901"/>
                  <a:pt x="611959" y="3513520"/>
                  <a:pt x="403154" y="3549661"/>
                </a:cubicBezTo>
                <a:lnTo>
                  <a:pt x="388455" y="1775466"/>
                </a:lnTo>
                <a:cubicBezTo>
                  <a:pt x="388455" y="1183644"/>
                  <a:pt x="388454" y="591822"/>
                  <a:pt x="388454" y="0"/>
                </a:cubicBezTo>
                <a:close/>
              </a:path>
              <a:path fill="none" w="776909" h="3550931">
                <a:moveTo>
                  <a:pt x="388454" y="0"/>
                </a:moveTo>
                <a:cubicBezTo>
                  <a:pt x="602854" y="0"/>
                  <a:pt x="776715" y="793923"/>
                  <a:pt x="776909" y="1773857"/>
                </a:cubicBezTo>
                <a:cubicBezTo>
                  <a:pt x="777098" y="2728901"/>
                  <a:pt x="611959" y="3513520"/>
                  <a:pt x="403154" y="3549661"/>
                </a:cubicBez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テキスト ボックス 532"/>
          <p:cNvSpPr/>
          <p:nvPr/>
        </p:nvSpPr>
        <p:spPr>
          <a:xfrm>
            <a:off x="6194520" y="2716200"/>
            <a:ext cx="393480" cy="36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横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テキスト ボックス 533"/>
          <p:cNvSpPr/>
          <p:nvPr/>
        </p:nvSpPr>
        <p:spPr>
          <a:xfrm>
            <a:off x="685800" y="4307040"/>
            <a:ext cx="7380360" cy="109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長方形の面積＝　縦　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×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　横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円の面積＝半径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×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円周の半分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正方形/長方形 8"/>
          <p:cNvSpPr/>
          <p:nvPr/>
        </p:nvSpPr>
        <p:spPr>
          <a:xfrm>
            <a:off x="3328920" y="5494320"/>
            <a:ext cx="3789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円周の半分＝直径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×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円周率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÷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　　　　　　　 ＝半径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×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円周率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正方形/長方形 9"/>
          <p:cNvSpPr/>
          <p:nvPr/>
        </p:nvSpPr>
        <p:spPr>
          <a:xfrm>
            <a:off x="1426320" y="6229440"/>
            <a:ext cx="297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円の面積＝半径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×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半径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×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円周率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正方形/長方形 10"/>
          <p:cNvSpPr/>
          <p:nvPr/>
        </p:nvSpPr>
        <p:spPr>
          <a:xfrm>
            <a:off x="5187960" y="5929200"/>
            <a:ext cx="13935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半径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×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円周率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正方形/長方形 11"/>
          <p:cNvSpPr/>
          <p:nvPr/>
        </p:nvSpPr>
        <p:spPr>
          <a:xfrm>
            <a:off x="3108240" y="4962600"/>
            <a:ext cx="1581120" cy="452520"/>
          </a:xfrm>
          <a:prstGeom prst="rect">
            <a:avLst/>
          </a:prstGeom>
          <a:solidFill>
            <a:srgbClr val="ffccff">
              <a:alpha val="50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正方形/長方形 534"/>
          <p:cNvSpPr/>
          <p:nvPr/>
        </p:nvSpPr>
        <p:spPr>
          <a:xfrm>
            <a:off x="3089160" y="5518080"/>
            <a:ext cx="1581120" cy="451080"/>
          </a:xfrm>
          <a:prstGeom prst="rect">
            <a:avLst/>
          </a:prstGeom>
          <a:solidFill>
            <a:srgbClr val="ffccff">
              <a:alpha val="50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1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6" dur="25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7" dur="25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250"/>
                            </p:stCondLst>
                            <p:childTnLst>
                              <p:par>
                                <p:cTn id="589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25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25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fill="hold">
                            <p:stCondLst>
                              <p:cond delay="500"/>
                            </p:stCondLst>
                            <p:childTnLst>
                              <p:par>
                                <p:cTn id="594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25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25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fill="hold">
                            <p:stCondLst>
                              <p:cond delay="750"/>
                            </p:stCondLst>
                            <p:childTnLst>
                              <p:par>
                                <p:cTn id="599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25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25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fill="hold">
                            <p:stCondLst>
                              <p:cond delay="1000"/>
                            </p:stCondLst>
                            <p:childTnLst>
                              <p:par>
                                <p:cTn id="604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25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25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fill="hold">
                            <p:stCondLst>
                              <p:cond delay="1250"/>
                            </p:stCondLst>
                            <p:childTnLst>
                              <p:par>
                                <p:cTn id="609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25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25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fill="hold">
                            <p:stCondLst>
                              <p:cond delay="1500"/>
                            </p:stCondLst>
                            <p:childTnLst>
                              <p:par>
                                <p:cTn id="614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6" dur="25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7" dur="25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fill="hold">
                            <p:stCondLst>
                              <p:cond delay="1750"/>
                            </p:stCondLst>
                            <p:childTnLst>
                              <p:par>
                                <p:cTn id="619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25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25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fill="hold">
                            <p:stCondLst>
                              <p:cond delay="2000"/>
                            </p:stCondLst>
                            <p:childTnLst>
                              <p:par>
                                <p:cTn id="624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25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25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fill="hold">
                            <p:stCondLst>
                              <p:cond delay="2250"/>
                            </p:stCondLst>
                            <p:childTnLst>
                              <p:par>
                                <p:cTn id="629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25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25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fill="hold">
                            <p:stCondLst>
                              <p:cond delay="2500"/>
                            </p:stCondLst>
                            <p:childTnLst>
                              <p:par>
                                <p:cTn id="634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6" dur="25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7" dur="25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fill="hold">
                            <p:stCondLst>
                              <p:cond delay="2750"/>
                            </p:stCondLst>
                            <p:childTnLst>
                              <p:par>
                                <p:cTn id="639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25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25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fill="hold">
                            <p:stCondLst>
                              <p:cond delay="3000"/>
                            </p:stCondLst>
                            <p:childTnLst>
                              <p:par>
                                <p:cTn id="644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6" dur="25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7" dur="25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8" fill="hold">
                            <p:stCondLst>
                              <p:cond delay="3250"/>
                            </p:stCondLst>
                            <p:childTnLst>
                              <p:par>
                                <p:cTn id="649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1" dur="25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2" dur="25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3" fill="hold">
                            <p:stCondLst>
                              <p:cond delay="3500"/>
                            </p:stCondLst>
                            <p:childTnLst>
                              <p:par>
                                <p:cTn id="654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25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25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" fill="hold">
                            <p:stCondLst>
                              <p:cond delay="3750"/>
                            </p:stCondLst>
                            <p:childTnLst>
                              <p:par>
                                <p:cTn id="659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25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25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fill="hold">
                            <p:stCondLst>
                              <p:cond delay="4000"/>
                            </p:stCondLst>
                            <p:childTnLst>
                              <p:par>
                                <p:cTn id="664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6" dur="25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7" dur="25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fill="hold">
                            <p:stCondLst>
                              <p:cond delay="4250"/>
                            </p:stCondLst>
                            <p:childTnLst>
                              <p:par>
                                <p:cTn id="669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25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25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3" fill="hold">
                            <p:stCondLst>
                              <p:cond delay="4500"/>
                            </p:stCondLst>
                            <p:childTnLst>
                              <p:par>
                                <p:cTn id="674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6" dur="25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7" dur="25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4750"/>
                            </p:stCondLst>
                            <p:childTnLst>
                              <p:par>
                                <p:cTn id="679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25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25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3" fill="hold">
                            <p:stCondLst>
                              <p:cond delay="5000"/>
                            </p:stCondLst>
                            <p:childTnLst>
                              <p:par>
                                <p:cTn id="684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6" dur="25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7" dur="25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8" fill="hold">
                            <p:stCondLst>
                              <p:cond delay="5250"/>
                            </p:stCondLst>
                            <p:childTnLst>
                              <p:par>
                                <p:cTn id="689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25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25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3" fill="hold">
                            <p:stCondLst>
                              <p:cond delay="5500"/>
                            </p:stCondLst>
                            <p:childTnLst>
                              <p:par>
                                <p:cTn id="694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6" dur="25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7" dur="25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fill="hold">
                            <p:stCondLst>
                              <p:cond delay="5750"/>
                            </p:stCondLst>
                            <p:childTnLst>
                              <p:par>
                                <p:cTn id="699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25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25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3" fill="hold">
                            <p:stCondLst>
                              <p:cond delay="6000"/>
                            </p:stCondLst>
                            <p:childTnLst>
                              <p:par>
                                <p:cTn id="704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25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25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8" fill="hold">
                            <p:stCondLst>
                              <p:cond delay="6250"/>
                            </p:stCondLst>
                            <p:childTnLst>
                              <p:par>
                                <p:cTn id="709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25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25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fill="hold">
                            <p:stCondLst>
                              <p:cond delay="6500"/>
                            </p:stCondLst>
                            <p:childTnLst>
                              <p:par>
                                <p:cTn id="714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6" dur="25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7" dur="25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8" fill="hold">
                            <p:stCondLst>
                              <p:cond delay="6750"/>
                            </p:stCondLst>
                            <p:childTnLst>
                              <p:par>
                                <p:cTn id="719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25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25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fill="hold">
                            <p:stCondLst>
                              <p:cond delay="7000"/>
                            </p:stCondLst>
                            <p:childTnLst>
                              <p:par>
                                <p:cTn id="724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6" dur="25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7" dur="25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8" fill="hold">
                            <p:stCondLst>
                              <p:cond delay="7250"/>
                            </p:stCondLst>
                            <p:childTnLst>
                              <p:par>
                                <p:cTn id="729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1" dur="25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2" dur="25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3" fill="hold">
                            <p:stCondLst>
                              <p:cond delay="7500"/>
                            </p:stCondLst>
                            <p:childTnLst>
                              <p:par>
                                <p:cTn id="734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6" dur="25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7" dur="25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8" fill="hold">
                            <p:stCondLst>
                              <p:cond delay="7750"/>
                            </p:stCondLst>
                            <p:childTnLst>
                              <p:par>
                                <p:cTn id="739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1" dur="25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2" dur="25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2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7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0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5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8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3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6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1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4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9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4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5" fill="hold">
                            <p:stCondLst>
                              <p:cond delay="500"/>
                            </p:stCondLst>
                            <p:childTnLst>
                              <p:par>
                                <p:cTn id="7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8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3" dur="500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6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1" dur="500"/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1.85185E-006 L -0.19132 -0.14074 E">
                                      <p:cBhvr>
                                        <p:cTn id="818" dur="2000" fill="hold"/>
                                        <p:tgtEl>
                                          <p:spTgt spid="3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3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3T07:56:32Z</dcterms:created>
  <dc:creator>豊田小学校</dc:creator>
  <dc:description/>
  <dc:language>en-US</dc:language>
  <cp:lastModifiedBy>Administrator</cp:lastModifiedBy>
  <dcterms:modified xsi:type="dcterms:W3CDTF">2015-12-04T05:53:42Z</dcterms:modified>
  <cp:revision>133</cp:revision>
  <dc:subject/>
  <dc:title>スライド 1</dc:title>
</cp:coreProperties>
</file>