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250-F0BB-4287-8804-CC685FC0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977-C659-4E1F-BC5F-6C62AAFC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6B0-41DB-4E02-B07B-21999932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A0D-B8EC-4597-84A1-5C7F7901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E37F-C55E-4FAA-B020-49601E8E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C99-CD41-47B2-9B7E-C78C577E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2BE-A0DD-42A3-9C98-7340A168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E76-6BA1-49C3-A621-F3B73329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72B-C2AC-4D9B-8B8F-F203DD8F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886-BC9D-4A8B-9CF7-21E2AD3A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8E0-9F39-4DB1-9EE6-888A100E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B92-C8A7-43CA-916F-A4B03849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10AB-5FEE-4DC2-8B4E-F88ECD66A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3.wmf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5.wmf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9.wmf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15.wmf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23.wmf"/><Relationship Id="rId6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1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2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43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8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9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0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52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53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4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16"/>
          <p:cNvSpPr/>
          <p:nvPr/>
        </p:nvSpPr>
        <p:spPr>
          <a:xfrm>
            <a:off x="3813120" y="1557360"/>
            <a:ext cx="484200" cy="380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3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4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5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49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54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55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62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63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72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73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84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85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6"/>
          <p:cNvGraphicFramePr/>
          <p:nvPr/>
        </p:nvGraphicFramePr>
        <p:xfrm>
          <a:off x="3884760" y="4552920"/>
          <a:ext cx="39528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正方形/長方形 16"/>
          <p:cNvSpPr/>
          <p:nvPr/>
        </p:nvSpPr>
        <p:spPr>
          <a:xfrm>
            <a:off x="3797280" y="1557360"/>
            <a:ext cx="482760" cy="6127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正方形/長方形 116"/>
          <p:cNvSpPr/>
          <p:nvPr/>
        </p:nvSpPr>
        <p:spPr>
          <a:xfrm>
            <a:off x="3797280" y="1569960"/>
            <a:ext cx="482760" cy="38037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16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16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6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16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17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17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17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18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18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19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20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20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5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6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6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56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781360" y="6175440"/>
          <a:ext cx="263520" cy="534960"/>
        </p:xfrm>
        <a:graphic>
          <a:graphicData uri="http://schemas.openxmlformats.org/presentationml/2006/ole">
            <p:oleObj r:id="rId58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278136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6"/>
          <p:cNvGraphicFramePr/>
          <p:nvPr/>
        </p:nvGraphicFramePr>
        <p:xfrm>
          <a:off x="3409920" y="6175440"/>
          <a:ext cx="263520" cy="53496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281" name="Object 6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340992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62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テキスト ボックス 2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テキスト ボックス 120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テキスト ボックス 121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テキスト ボックス 122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正方形/長方形 116"/>
          <p:cNvSpPr/>
          <p:nvPr/>
        </p:nvSpPr>
        <p:spPr>
          <a:xfrm>
            <a:off x="1981080" y="2217600"/>
            <a:ext cx="484200" cy="430704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29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29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29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29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30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30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30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31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31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32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33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33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7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8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8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8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39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39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39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0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40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05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06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07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9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0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411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412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6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3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6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4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445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454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455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9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7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6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7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7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47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48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5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486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488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490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492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正方形/長方形 147"/>
          <p:cNvSpPr/>
          <p:nvPr/>
        </p:nvSpPr>
        <p:spPr>
          <a:xfrm>
            <a:off x="208296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495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497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99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501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503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テキスト ボックス 153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テキスト ボックス 154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テキスト ボックス 155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テキスト ボックス 156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グループ化 157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509" name="直線コネクタ 158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159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161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テキスト ボックス 162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テキスト ボックス 163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6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テキスト ボックス 6"/>
          <p:cNvSpPr/>
          <p:nvPr/>
        </p:nvSpPr>
        <p:spPr>
          <a:xfrm>
            <a:off x="1692360" y="23932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テキスト ボックス 90"/>
          <p:cNvSpPr/>
          <p:nvPr/>
        </p:nvSpPr>
        <p:spPr>
          <a:xfrm>
            <a:off x="3430440" y="180756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テキスト ボックス 93"/>
          <p:cNvSpPr/>
          <p:nvPr/>
        </p:nvSpPr>
        <p:spPr>
          <a:xfrm>
            <a:off x="5894280" y="14677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円弧 112"/>
          <p:cNvSpPr/>
          <p:nvPr/>
        </p:nvSpPr>
        <p:spPr>
          <a:xfrm flipV="1" rot="1855200">
            <a:off x="-322200" y="-2016720"/>
            <a:ext cx="9045360" cy="82072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テキスト ボックス 113"/>
          <p:cNvSpPr/>
          <p:nvPr/>
        </p:nvSpPr>
        <p:spPr>
          <a:xfrm>
            <a:off x="1692360" y="453312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テキスト ボックス 114"/>
          <p:cNvSpPr/>
          <p:nvPr/>
        </p:nvSpPr>
        <p:spPr>
          <a:xfrm>
            <a:off x="3430440" y="50824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テキスト ボックス 115"/>
          <p:cNvSpPr/>
          <p:nvPr/>
        </p:nvSpPr>
        <p:spPr>
          <a:xfrm>
            <a:off x="5894280" y="55015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8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テキスト ボックス 6"/>
          <p:cNvSpPr/>
          <p:nvPr/>
        </p:nvSpPr>
        <p:spPr>
          <a:xfrm>
            <a:off x="1692360" y="235080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テキスト ボックス 90"/>
          <p:cNvSpPr/>
          <p:nvPr/>
        </p:nvSpPr>
        <p:spPr>
          <a:xfrm>
            <a:off x="3492360" y="1774800"/>
            <a:ext cx="6969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テキスト ボックス 93"/>
          <p:cNvSpPr/>
          <p:nvPr/>
        </p:nvSpPr>
        <p:spPr>
          <a:xfrm>
            <a:off x="6084720" y="1528560"/>
            <a:ext cx="7081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円弧 112"/>
          <p:cNvSpPr/>
          <p:nvPr/>
        </p:nvSpPr>
        <p:spPr>
          <a:xfrm flipV="1" rot="1855200">
            <a:off x="-321840" y="-2032200"/>
            <a:ext cx="9045360" cy="82090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テキスト ボックス 113"/>
          <p:cNvSpPr/>
          <p:nvPr/>
        </p:nvSpPr>
        <p:spPr>
          <a:xfrm>
            <a:off x="1692360" y="472824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テキスト ボックス 114"/>
          <p:cNvSpPr/>
          <p:nvPr/>
        </p:nvSpPr>
        <p:spPr>
          <a:xfrm>
            <a:off x="3635280" y="5232240"/>
            <a:ext cx="71748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テキスト ボックス 115"/>
          <p:cNvSpPr/>
          <p:nvPr/>
        </p:nvSpPr>
        <p:spPr>
          <a:xfrm>
            <a:off x="6084720" y="5592600"/>
            <a:ext cx="6620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Object 6"/>
          <p:cNvGraphicFramePr/>
          <p:nvPr/>
        </p:nvGraphicFramePr>
        <p:xfrm>
          <a:off x="7585200" y="3247920"/>
          <a:ext cx="887400" cy="1189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85200" y="3247920"/>
                    <a:ext cx="8874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56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56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56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56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56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9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9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9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60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61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61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正方形/長方形 147"/>
          <p:cNvSpPr/>
          <p:nvPr/>
        </p:nvSpPr>
        <p:spPr>
          <a:xfrm>
            <a:off x="399564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65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65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65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65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66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67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67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67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7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7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67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67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0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0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0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0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71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72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72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3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73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74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74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74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74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75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75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75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75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正方形/長方形 147"/>
          <p:cNvSpPr/>
          <p:nvPr/>
        </p:nvSpPr>
        <p:spPr>
          <a:xfrm>
            <a:off x="5985000" y="1422360"/>
            <a:ext cx="4824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76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76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76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76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76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77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0-19T02:43:42Z</dcterms:modified>
  <cp:revision>46</cp:revision>
  <dc:subject/>
  <dc:title>スライド 1</dc:title>
</cp:coreProperties>
</file>