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D9E-C4A5-496D-B281-146184C2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9E1-4FD4-4AEC-838C-91E3141B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648-F893-45F6-BCE4-90FD483B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2F0-7301-4A1F-A18C-4D81B1BF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E32-1149-47EA-B318-EE214B9A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552-0D7C-4751-A8AC-0CDFBA21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7E1-19E2-4609-8CA6-0B4852A9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EB1-2203-42BF-92A1-FBEB9725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D33-8C36-42E8-8E66-48B2C46F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5CF-7480-4AEA-A1AA-1EFF8375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F99-1ED5-475C-975D-66CC8B44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5E8-08E2-4A0D-85D6-A93FFBB0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CFEF-7F23-4505-BDD9-511BF743B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3.wmf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5.wmf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9.wmf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15.wmf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23.wmf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6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7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1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19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0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21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22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23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25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26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27.wmf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1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2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43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48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49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0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33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5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6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37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8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9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40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52.wmf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53.wmf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54.wmf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44.wmf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44.wmf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16"/>
          <p:cNvSpPr/>
          <p:nvPr/>
        </p:nvSpPr>
        <p:spPr>
          <a:xfrm>
            <a:off x="3813120" y="1557360"/>
            <a:ext cx="484200" cy="380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3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4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5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49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54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55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62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63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72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73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84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85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3884760" y="4552920"/>
          <a:ext cx="39528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正方形/長方形 16"/>
          <p:cNvSpPr/>
          <p:nvPr/>
        </p:nvSpPr>
        <p:spPr>
          <a:xfrm>
            <a:off x="3797280" y="1557360"/>
            <a:ext cx="482760" cy="6127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正方形/長方形 116"/>
          <p:cNvSpPr/>
          <p:nvPr/>
        </p:nvSpPr>
        <p:spPr>
          <a:xfrm>
            <a:off x="3797280" y="1569960"/>
            <a:ext cx="482760" cy="38037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6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16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6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16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17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17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17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18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18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19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20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20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6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56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781360" y="6175440"/>
          <a:ext cx="263520" cy="53496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278136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6"/>
          <p:cNvGraphicFramePr/>
          <p:nvPr/>
        </p:nvGraphicFramePr>
        <p:xfrm>
          <a:off x="3409920" y="6175440"/>
          <a:ext cx="263520" cy="53496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3409920" y="6175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62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テキスト ボックス 2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テキスト ボックス 120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テキスト ボックス 121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テキスト ボックス 122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正方形/長方形 116"/>
          <p:cNvSpPr/>
          <p:nvPr/>
        </p:nvSpPr>
        <p:spPr>
          <a:xfrm>
            <a:off x="1981080" y="2217600"/>
            <a:ext cx="484200" cy="430704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290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291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92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4" name=""/>
          <p:cNvGraphicFramePr/>
          <p:nvPr/>
        </p:nvGraphicFramePr>
        <p:xfrm>
          <a:off x="71280" y="1628640"/>
          <a:ext cx="9001440" cy="43196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  <a:gridCol w="324000"/>
                <a:gridCol w="395280"/>
                <a:gridCol w="360360"/>
                <a:gridCol w="36036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5" name="グループ化 7"/>
          <p:cNvGrpSpPr/>
          <p:nvPr/>
        </p:nvGrpSpPr>
        <p:grpSpPr>
          <a:xfrm>
            <a:off x="420840" y="2133720"/>
            <a:ext cx="7920000" cy="215640"/>
            <a:chOff x="420840" y="2133720"/>
            <a:chExt cx="7920000" cy="215640"/>
          </a:xfrm>
        </p:grpSpPr>
        <p:sp>
          <p:nvSpPr>
            <p:cNvPr id="296" name="直線コネクタ 3"/>
            <p:cNvSpPr/>
            <p:nvPr/>
          </p:nvSpPr>
          <p:spPr>
            <a:xfrm>
              <a:off x="420840" y="234936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5"/>
            <p:cNvSpPr/>
            <p:nvPr/>
          </p:nvSpPr>
          <p:spPr>
            <a:xfrm>
              <a:off x="42084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線コネクタ 27"/>
            <p:cNvSpPr/>
            <p:nvPr/>
          </p:nvSpPr>
          <p:spPr>
            <a:xfrm>
              <a:off x="402120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直線コネクタ 28"/>
            <p:cNvSpPr/>
            <p:nvPr/>
          </p:nvSpPr>
          <p:spPr>
            <a:xfrm>
              <a:off x="7628760" y="213372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グループ化 13"/>
          <p:cNvGrpSpPr/>
          <p:nvPr/>
        </p:nvGrpSpPr>
        <p:grpSpPr>
          <a:xfrm>
            <a:off x="428760" y="2854440"/>
            <a:ext cx="7920000" cy="215640"/>
            <a:chOff x="428760" y="2854440"/>
            <a:chExt cx="7920000" cy="215640"/>
          </a:xfrm>
        </p:grpSpPr>
        <p:grpSp>
          <p:nvGrpSpPr>
            <p:cNvPr id="301" name="グループ化 31"/>
            <p:cNvGrpSpPr/>
            <p:nvPr/>
          </p:nvGrpSpPr>
          <p:grpSpPr>
            <a:xfrm>
              <a:off x="428760" y="2854440"/>
              <a:ext cx="7920000" cy="215640"/>
              <a:chOff x="428760" y="2854440"/>
              <a:chExt cx="7920000" cy="215640"/>
            </a:xfrm>
          </p:grpSpPr>
          <p:sp>
            <p:nvSpPr>
              <p:cNvPr id="302" name="直線コネクタ 32"/>
              <p:cNvSpPr/>
              <p:nvPr/>
            </p:nvSpPr>
            <p:spPr>
              <a:xfrm>
                <a:off x="428760" y="307008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直線コネクタ 33"/>
              <p:cNvSpPr/>
              <p:nvPr/>
            </p:nvSpPr>
            <p:spPr>
              <a:xfrm>
                <a:off x="4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直線コネクタ 34"/>
              <p:cNvSpPr/>
              <p:nvPr/>
            </p:nvSpPr>
            <p:spPr>
              <a:xfrm>
                <a:off x="402912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直線コネクタ 35"/>
              <p:cNvSpPr/>
              <p:nvPr/>
            </p:nvSpPr>
            <p:spPr>
              <a:xfrm>
                <a:off x="7628760" y="2854440"/>
                <a:ext cx="0" cy="21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直線コネクタ 51"/>
            <p:cNvSpPr/>
            <p:nvPr/>
          </p:nvSpPr>
          <p:spPr>
            <a:xfrm>
              <a:off x="222984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52"/>
            <p:cNvSpPr/>
            <p:nvPr/>
          </p:nvSpPr>
          <p:spPr>
            <a:xfrm>
              <a:off x="5834520" y="285444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グループ化 12"/>
          <p:cNvGrpSpPr/>
          <p:nvPr/>
        </p:nvGrpSpPr>
        <p:grpSpPr>
          <a:xfrm>
            <a:off x="420840" y="3597120"/>
            <a:ext cx="7920000" cy="216000"/>
            <a:chOff x="420840" y="3597120"/>
            <a:chExt cx="7920000" cy="216000"/>
          </a:xfrm>
        </p:grpSpPr>
        <p:grpSp>
          <p:nvGrpSpPr>
            <p:cNvPr id="309" name="グループ化 36"/>
            <p:cNvGrpSpPr/>
            <p:nvPr/>
          </p:nvGrpSpPr>
          <p:grpSpPr>
            <a:xfrm>
              <a:off x="420840" y="3597120"/>
              <a:ext cx="7920000" cy="216000"/>
              <a:chOff x="420840" y="3597120"/>
              <a:chExt cx="7920000" cy="216000"/>
            </a:xfrm>
          </p:grpSpPr>
          <p:sp>
            <p:nvSpPr>
              <p:cNvPr id="310" name="直線コネクタ 37"/>
              <p:cNvSpPr/>
              <p:nvPr/>
            </p:nvSpPr>
            <p:spPr>
              <a:xfrm>
                <a:off x="420840" y="381312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直線コネクタ 38"/>
              <p:cNvSpPr/>
              <p:nvPr/>
            </p:nvSpPr>
            <p:spPr>
              <a:xfrm>
                <a:off x="4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直線コネクタ 39"/>
              <p:cNvSpPr/>
              <p:nvPr/>
            </p:nvSpPr>
            <p:spPr>
              <a:xfrm>
                <a:off x="402120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0"/>
              <p:cNvSpPr/>
              <p:nvPr/>
            </p:nvSpPr>
            <p:spPr>
              <a:xfrm>
                <a:off x="7620840" y="359712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4" name="直線コネクタ 53"/>
            <p:cNvSpPr/>
            <p:nvPr/>
          </p:nvSpPr>
          <p:spPr>
            <a:xfrm>
              <a:off x="161928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線コネクタ 54"/>
            <p:cNvSpPr/>
            <p:nvPr/>
          </p:nvSpPr>
          <p:spPr>
            <a:xfrm>
              <a:off x="284364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57"/>
            <p:cNvSpPr/>
            <p:nvPr/>
          </p:nvSpPr>
          <p:spPr>
            <a:xfrm>
              <a:off x="522000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58"/>
            <p:cNvSpPr/>
            <p:nvPr/>
          </p:nvSpPr>
          <p:spPr>
            <a:xfrm>
              <a:off x="6444360" y="359712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グループ化 11"/>
          <p:cNvGrpSpPr/>
          <p:nvPr/>
        </p:nvGrpSpPr>
        <p:grpSpPr>
          <a:xfrm>
            <a:off x="419040" y="4292640"/>
            <a:ext cx="7920000" cy="216000"/>
            <a:chOff x="419040" y="4292640"/>
            <a:chExt cx="7920000" cy="216000"/>
          </a:xfrm>
        </p:grpSpPr>
        <p:grpSp>
          <p:nvGrpSpPr>
            <p:cNvPr id="319" name="グループ化 41"/>
            <p:cNvGrpSpPr/>
            <p:nvPr/>
          </p:nvGrpSpPr>
          <p:grpSpPr>
            <a:xfrm>
              <a:off x="419040" y="4292640"/>
              <a:ext cx="7920000" cy="216000"/>
              <a:chOff x="419040" y="4292640"/>
              <a:chExt cx="7920000" cy="216000"/>
            </a:xfrm>
          </p:grpSpPr>
          <p:sp>
            <p:nvSpPr>
              <p:cNvPr id="320" name="直線コネクタ 42"/>
              <p:cNvSpPr/>
              <p:nvPr/>
            </p:nvSpPr>
            <p:spPr>
              <a:xfrm>
                <a:off x="419040" y="45086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直線コネクタ 43"/>
              <p:cNvSpPr/>
              <p:nvPr/>
            </p:nvSpPr>
            <p:spPr>
              <a:xfrm>
                <a:off x="4190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直線コネクタ 44"/>
              <p:cNvSpPr/>
              <p:nvPr/>
            </p:nvSpPr>
            <p:spPr>
              <a:xfrm>
                <a:off x="404244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直線コネクタ 45"/>
              <p:cNvSpPr/>
              <p:nvPr/>
            </p:nvSpPr>
            <p:spPr>
              <a:xfrm>
                <a:off x="7642080" y="4292640"/>
                <a:ext cx="0" cy="21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直線コネクタ 59"/>
            <p:cNvSpPr/>
            <p:nvPr/>
          </p:nvSpPr>
          <p:spPr>
            <a:xfrm>
              <a:off x="22176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線コネクタ 60"/>
            <p:cNvSpPr/>
            <p:nvPr/>
          </p:nvSpPr>
          <p:spPr>
            <a:xfrm>
              <a:off x="132768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線コネクタ 61"/>
            <p:cNvSpPr/>
            <p:nvPr/>
          </p:nvSpPr>
          <p:spPr>
            <a:xfrm>
              <a:off x="31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2"/>
            <p:cNvSpPr/>
            <p:nvPr/>
          </p:nvSpPr>
          <p:spPr>
            <a:xfrm>
              <a:off x="583056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3"/>
            <p:cNvSpPr/>
            <p:nvPr/>
          </p:nvSpPr>
          <p:spPr>
            <a:xfrm>
              <a:off x="494100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4"/>
            <p:cNvSpPr/>
            <p:nvPr/>
          </p:nvSpPr>
          <p:spPr>
            <a:xfrm>
              <a:off x="6754320" y="4292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グループ化 10"/>
          <p:cNvGrpSpPr/>
          <p:nvPr/>
        </p:nvGrpSpPr>
        <p:grpSpPr>
          <a:xfrm>
            <a:off x="419040" y="5030640"/>
            <a:ext cx="7920000" cy="217800"/>
            <a:chOff x="419040" y="5030640"/>
            <a:chExt cx="7920000" cy="217800"/>
          </a:xfrm>
        </p:grpSpPr>
        <p:grpSp>
          <p:nvGrpSpPr>
            <p:cNvPr id="331" name="グループ化 46"/>
            <p:cNvGrpSpPr/>
            <p:nvPr/>
          </p:nvGrpSpPr>
          <p:grpSpPr>
            <a:xfrm>
              <a:off x="419040" y="5030640"/>
              <a:ext cx="7920000" cy="217800"/>
              <a:chOff x="419040" y="5030640"/>
              <a:chExt cx="7920000" cy="217800"/>
            </a:xfrm>
          </p:grpSpPr>
          <p:sp>
            <p:nvSpPr>
              <p:cNvPr id="332" name="直線コネクタ 47"/>
              <p:cNvSpPr/>
              <p:nvPr/>
            </p:nvSpPr>
            <p:spPr>
              <a:xfrm>
                <a:off x="419040" y="5248440"/>
                <a:ext cx="7920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直線コネクタ 48"/>
              <p:cNvSpPr/>
              <p:nvPr/>
            </p:nvSpPr>
            <p:spPr>
              <a:xfrm>
                <a:off x="4190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9"/>
              <p:cNvSpPr/>
              <p:nvPr/>
            </p:nvSpPr>
            <p:spPr>
              <a:xfrm>
                <a:off x="404244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50"/>
              <p:cNvSpPr/>
              <p:nvPr/>
            </p:nvSpPr>
            <p:spPr>
              <a:xfrm>
                <a:off x="7634520" y="5030640"/>
                <a:ext cx="0" cy="217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187128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141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25945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8"/>
            <p:cNvSpPr/>
            <p:nvPr/>
          </p:nvSpPr>
          <p:spPr>
            <a:xfrm>
              <a:off x="474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線コネクタ 69"/>
            <p:cNvSpPr/>
            <p:nvPr/>
          </p:nvSpPr>
          <p:spPr>
            <a:xfrm>
              <a:off x="3300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直線コネクタ 70"/>
            <p:cNvSpPr/>
            <p:nvPr/>
          </p:nvSpPr>
          <p:spPr>
            <a:xfrm>
              <a:off x="547056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直線コネクタ 71"/>
            <p:cNvSpPr/>
            <p:nvPr/>
          </p:nvSpPr>
          <p:spPr>
            <a:xfrm>
              <a:off x="691092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線コネクタ 73"/>
            <p:cNvSpPr/>
            <p:nvPr/>
          </p:nvSpPr>
          <p:spPr>
            <a:xfrm>
              <a:off x="6189840" y="5030640"/>
              <a:ext cx="0" cy="21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テキスト ボックス 14"/>
          <p:cNvSpPr/>
          <p:nvPr/>
        </p:nvSpPr>
        <p:spPr>
          <a:xfrm>
            <a:off x="26496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テキスト ボックス 80"/>
          <p:cNvSpPr/>
          <p:nvPr/>
        </p:nvSpPr>
        <p:spPr>
          <a:xfrm>
            <a:off x="281160" y="2471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テキスト ボックス 81"/>
          <p:cNvSpPr/>
          <p:nvPr/>
        </p:nvSpPr>
        <p:spPr>
          <a:xfrm>
            <a:off x="264960" y="31590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82"/>
          <p:cNvSpPr/>
          <p:nvPr/>
        </p:nvSpPr>
        <p:spPr>
          <a:xfrm>
            <a:off x="279360" y="39164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テキスト ボックス 83"/>
          <p:cNvSpPr/>
          <p:nvPr/>
        </p:nvSpPr>
        <p:spPr>
          <a:xfrm>
            <a:off x="264960" y="4619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3911760" y="1636560"/>
          <a:ext cx="261720" cy="5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11760" y="163656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6"/>
          <p:cNvGraphicFramePr/>
          <p:nvPr/>
        </p:nvGraphicFramePr>
        <p:xfrm>
          <a:off x="2092320" y="238608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2320" y="238608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テキスト ボックス 86"/>
          <p:cNvSpPr/>
          <p:nvPr/>
        </p:nvSpPr>
        <p:spPr>
          <a:xfrm>
            <a:off x="7466040" y="17082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87"/>
          <p:cNvSpPr/>
          <p:nvPr/>
        </p:nvSpPr>
        <p:spPr>
          <a:xfrm>
            <a:off x="7466040" y="24447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テキスト ボックス 88"/>
          <p:cNvSpPr/>
          <p:nvPr/>
        </p:nvSpPr>
        <p:spPr>
          <a:xfrm>
            <a:off x="7466040" y="31845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テキスト ボックス 89"/>
          <p:cNvSpPr/>
          <p:nvPr/>
        </p:nvSpPr>
        <p:spPr>
          <a:xfrm>
            <a:off x="746604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テキスト ボックス 90"/>
          <p:cNvSpPr/>
          <p:nvPr/>
        </p:nvSpPr>
        <p:spPr>
          <a:xfrm>
            <a:off x="7451640" y="461484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8" name="Object 6"/>
          <p:cNvGraphicFramePr/>
          <p:nvPr/>
        </p:nvGraphicFramePr>
        <p:xfrm>
          <a:off x="3913200" y="2408400"/>
          <a:ext cx="26352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3200" y="2408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6"/>
          <p:cNvGraphicFramePr/>
          <p:nvPr/>
        </p:nvGraphicFramePr>
        <p:xfrm>
          <a:off x="5705640" y="2374920"/>
          <a:ext cx="2617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237492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6"/>
          <p:cNvGraphicFramePr/>
          <p:nvPr/>
        </p:nvGraphicFramePr>
        <p:xfrm>
          <a:off x="1523880" y="3121200"/>
          <a:ext cx="26208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6"/>
          <p:cNvGraphicFramePr/>
          <p:nvPr/>
        </p:nvGraphicFramePr>
        <p:xfrm>
          <a:off x="2730600" y="3147840"/>
          <a:ext cx="261720" cy="535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30600" y="3147840"/>
                    <a:ext cx="261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6"/>
          <p:cNvGraphicFramePr/>
          <p:nvPr/>
        </p:nvGraphicFramePr>
        <p:xfrm>
          <a:off x="3936960" y="3147840"/>
          <a:ext cx="262080" cy="53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6960" y="3147840"/>
                    <a:ext cx="262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6"/>
          <p:cNvGraphicFramePr/>
          <p:nvPr/>
        </p:nvGraphicFramePr>
        <p:xfrm>
          <a:off x="5143680" y="3121200"/>
          <a:ext cx="26172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43680" y="312120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6"/>
          <p:cNvGraphicFramePr/>
          <p:nvPr/>
        </p:nvGraphicFramePr>
        <p:xfrm>
          <a:off x="6319800" y="3121200"/>
          <a:ext cx="26208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19800" y="31212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6"/>
          <p:cNvGraphicFramePr/>
          <p:nvPr/>
        </p:nvGraphicFramePr>
        <p:xfrm>
          <a:off x="1231920" y="384336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31920" y="384336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097000" y="3843360"/>
          <a:ext cx="26208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097000" y="384336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6"/>
          <p:cNvGraphicFramePr/>
          <p:nvPr/>
        </p:nvGraphicFramePr>
        <p:xfrm>
          <a:off x="3036960" y="3851280"/>
          <a:ext cx="26352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036960" y="385128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6"/>
          <p:cNvGraphicFramePr/>
          <p:nvPr/>
        </p:nvGraphicFramePr>
        <p:xfrm>
          <a:off x="3936960" y="3867120"/>
          <a:ext cx="262080" cy="534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36960" y="38671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6"/>
          <p:cNvGraphicFramePr/>
          <p:nvPr/>
        </p:nvGraphicFramePr>
        <p:xfrm>
          <a:off x="4824360" y="3841920"/>
          <a:ext cx="262080" cy="5349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824360" y="384192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6"/>
          <p:cNvGraphicFramePr/>
          <p:nvPr/>
        </p:nvGraphicFramePr>
        <p:xfrm>
          <a:off x="5726160" y="3867120"/>
          <a:ext cx="26352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83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26160" y="38671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6"/>
          <p:cNvGraphicFramePr/>
          <p:nvPr/>
        </p:nvGraphicFramePr>
        <p:xfrm>
          <a:off x="6664320" y="3841920"/>
          <a:ext cx="263520" cy="5349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85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64320" y="384192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6"/>
          <p:cNvGraphicFramePr/>
          <p:nvPr/>
        </p:nvGraphicFramePr>
        <p:xfrm>
          <a:off x="961920" y="4552920"/>
          <a:ext cx="395280" cy="5349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96192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1697040" y="4540320"/>
          <a:ext cx="39528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697040" y="45403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6"/>
          <p:cNvGraphicFramePr/>
          <p:nvPr/>
        </p:nvGraphicFramePr>
        <p:xfrm>
          <a:off x="2413080" y="4552920"/>
          <a:ext cx="39528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41308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6"/>
          <p:cNvGraphicFramePr/>
          <p:nvPr/>
        </p:nvGraphicFramePr>
        <p:xfrm>
          <a:off x="3151080" y="4565520"/>
          <a:ext cx="3952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1510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3884760" y="4552920"/>
          <a:ext cx="36324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884760" y="4552920"/>
                    <a:ext cx="363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6"/>
          <p:cNvGraphicFramePr/>
          <p:nvPr/>
        </p:nvGraphicFramePr>
        <p:xfrm>
          <a:off x="4592520" y="4565520"/>
          <a:ext cx="3952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397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459252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5330880" y="4565520"/>
          <a:ext cx="39528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330880" y="45655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6960" y="4552920"/>
          <a:ext cx="39528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06960" y="455292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"/>
          <p:cNvGraphicFramePr/>
          <p:nvPr/>
        </p:nvGraphicFramePr>
        <p:xfrm>
          <a:off x="6729480" y="4589640"/>
          <a:ext cx="39528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729480" y="45896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405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406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07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9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0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411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412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5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3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4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445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454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455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9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7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70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72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74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80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486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488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490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492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正方形/長方形 147"/>
          <p:cNvSpPr/>
          <p:nvPr/>
        </p:nvSpPr>
        <p:spPr>
          <a:xfrm>
            <a:off x="208296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495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497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499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501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503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テキスト ボックス 153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テキスト ボックス 154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テキスト ボックス 155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テキスト ボックス 156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グループ化 157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509" name="直線コネクタ 158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159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161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テキスト ボックス 162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テキスト ボックス 163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6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テキスト ボックス 6"/>
          <p:cNvSpPr/>
          <p:nvPr/>
        </p:nvSpPr>
        <p:spPr>
          <a:xfrm>
            <a:off x="1692360" y="23932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テキスト ボックス 90"/>
          <p:cNvSpPr/>
          <p:nvPr/>
        </p:nvSpPr>
        <p:spPr>
          <a:xfrm>
            <a:off x="3430440" y="18075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テキスト ボックス 93"/>
          <p:cNvSpPr/>
          <p:nvPr/>
        </p:nvSpPr>
        <p:spPr>
          <a:xfrm>
            <a:off x="5894280" y="14677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円弧 112"/>
          <p:cNvSpPr/>
          <p:nvPr/>
        </p:nvSpPr>
        <p:spPr>
          <a:xfrm flipV="1" rot="1855200">
            <a:off x="-322200" y="-2016720"/>
            <a:ext cx="9045360" cy="82072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テキスト ボックス 113"/>
          <p:cNvSpPr/>
          <p:nvPr/>
        </p:nvSpPr>
        <p:spPr>
          <a:xfrm>
            <a:off x="1692360" y="453312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テキスト ボックス 114"/>
          <p:cNvSpPr/>
          <p:nvPr/>
        </p:nvSpPr>
        <p:spPr>
          <a:xfrm>
            <a:off x="3430440" y="508248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テキスト ボックス 115"/>
          <p:cNvSpPr/>
          <p:nvPr/>
        </p:nvSpPr>
        <p:spPr>
          <a:xfrm>
            <a:off x="5894280" y="5501520"/>
            <a:ext cx="8654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3"/>
          <p:cNvSpPr/>
          <p:nvPr/>
        </p:nvSpPr>
        <p:spPr>
          <a:xfrm>
            <a:off x="1403280" y="396720"/>
            <a:ext cx="7237440" cy="61920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きさの等しい分数のつくり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Object 6"/>
          <p:cNvGraphicFramePr/>
          <p:nvPr/>
        </p:nvGraphicFramePr>
        <p:xfrm>
          <a:off x="485640" y="3227400"/>
          <a:ext cx="582840" cy="11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3227400"/>
                    <a:ext cx="5828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6"/>
          <p:cNvGraphicFramePr/>
          <p:nvPr/>
        </p:nvGraphicFramePr>
        <p:xfrm>
          <a:off x="2749680" y="3206880"/>
          <a:ext cx="582480" cy="11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3206880"/>
                    <a:ext cx="582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6"/>
          <p:cNvGraphicFramePr/>
          <p:nvPr/>
        </p:nvGraphicFramePr>
        <p:xfrm>
          <a:off x="5013360" y="3232080"/>
          <a:ext cx="880920" cy="11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3360" y="3232080"/>
                    <a:ext cx="88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6"/>
          <p:cNvGraphicFramePr/>
          <p:nvPr/>
        </p:nvGraphicFramePr>
        <p:xfrm>
          <a:off x="7575480" y="3257640"/>
          <a:ext cx="887400" cy="11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75480" y="3257640"/>
                    <a:ext cx="88740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円弧 2"/>
          <p:cNvSpPr/>
          <p:nvPr/>
        </p:nvSpPr>
        <p:spPr>
          <a:xfrm rot="19643400">
            <a:off x="549360" y="2525400"/>
            <a:ext cx="2590560" cy="2590920"/>
          </a:xfrm>
          <a:custGeom>
            <a:avLst/>
            <a:gdLst/>
            <a:ahLst/>
            <a:rect l="l" t="t" r="r" b="b"/>
            <a:pathLst>
              <a:path stroke="0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  <a:lnTo>
                  <a:pt x="1295303" y="1295303"/>
                </a:lnTo>
                <a:lnTo>
                  <a:pt x="789384" y="102887"/>
                </a:lnTo>
                <a:close/>
              </a:path>
              <a:path fill="none" w="2590606" h="2590606">
                <a:moveTo>
                  <a:pt x="789384" y="102887"/>
                </a:moveTo>
                <a:cubicBezTo>
                  <a:pt x="1189439" y="-66849"/>
                  <a:pt x="1647952" y="-24660"/>
                  <a:pt x="2010317" y="215227"/>
                </a:cubicBezTo>
                <a:cubicBezTo>
                  <a:pt x="2372682" y="455114"/>
                  <a:pt x="2590605" y="860729"/>
                  <a:pt x="2590605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円弧 88"/>
          <p:cNvSpPr/>
          <p:nvPr/>
        </p:nvSpPr>
        <p:spPr>
          <a:xfrm rot="19867200">
            <a:off x="322200" y="1883880"/>
            <a:ext cx="5437080" cy="5437440"/>
          </a:xfrm>
          <a:custGeom>
            <a:avLst/>
            <a:gdLst/>
            <a:ahLst/>
            <a:rect l="l" t="t" r="r" b="b"/>
            <a:pathLst>
              <a:path stroke="0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  <a:lnTo>
                  <a:pt x="2719009" y="2719009"/>
                </a:lnTo>
                <a:lnTo>
                  <a:pt x="1440333" y="319426"/>
                </a:lnTo>
                <a:close/>
              </a:path>
              <a:path fill="none" w="5438017" h="5438017">
                <a:moveTo>
                  <a:pt x="1440333" y="319426"/>
                </a:moveTo>
                <a:cubicBezTo>
                  <a:pt x="2283064" y="-129644"/>
                  <a:pt x="3299600" y="-103717"/>
                  <a:pt x="4118344" y="387728"/>
                </a:cubicBezTo>
                <a:cubicBezTo>
                  <a:pt x="4937088" y="879173"/>
                  <a:pt x="5438018" y="1764095"/>
                  <a:pt x="5438018" y="2719009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円弧 89"/>
          <p:cNvSpPr/>
          <p:nvPr/>
        </p:nvSpPr>
        <p:spPr>
          <a:xfrm rot="19812000">
            <a:off x="-372960" y="1387440"/>
            <a:ext cx="9045360" cy="8223120"/>
          </a:xfrm>
          <a:custGeom>
            <a:avLst/>
            <a:gdLst/>
            <a:ahLst/>
            <a:rect l="l" t="t" r="r" b="b"/>
            <a:pathLst>
              <a:path stroke="0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  <a:lnTo>
                  <a:pt x="4522119" y="4111017"/>
                </a:lnTo>
                <a:lnTo>
                  <a:pt x="2740133" y="332644"/>
                </a:lnTo>
                <a:close/>
              </a:path>
              <a:path fill="none" w="9044238" h="8222034">
                <a:moveTo>
                  <a:pt x="2740133" y="332644"/>
                </a:moveTo>
                <a:cubicBezTo>
                  <a:pt x="4049229" y="-177609"/>
                  <a:pt x="5546259" y="-97343"/>
                  <a:pt x="6780302" y="549264"/>
                </a:cubicBezTo>
                <a:cubicBezTo>
                  <a:pt x="8181071" y="1283231"/>
                  <a:pt x="9044237" y="2641214"/>
                  <a:pt x="9044237" y="411101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テキスト ボックス 6"/>
          <p:cNvSpPr/>
          <p:nvPr/>
        </p:nvSpPr>
        <p:spPr>
          <a:xfrm>
            <a:off x="1692360" y="235080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テキスト ボックス 90"/>
          <p:cNvSpPr/>
          <p:nvPr/>
        </p:nvSpPr>
        <p:spPr>
          <a:xfrm>
            <a:off x="3492360" y="1774800"/>
            <a:ext cx="6969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テキスト ボックス 93"/>
          <p:cNvSpPr/>
          <p:nvPr/>
        </p:nvSpPr>
        <p:spPr>
          <a:xfrm>
            <a:off x="6084720" y="1528560"/>
            <a:ext cx="7081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円弧 110"/>
          <p:cNvSpPr/>
          <p:nvPr/>
        </p:nvSpPr>
        <p:spPr>
          <a:xfrm flipH="1" rot="12867000">
            <a:off x="541080" y="2408400"/>
            <a:ext cx="2590560" cy="2589120"/>
          </a:xfrm>
          <a:custGeom>
            <a:avLst/>
            <a:gdLst/>
            <a:ahLst/>
            <a:rect l="l" t="t" r="r" b="b"/>
            <a:pathLst>
              <a:path stroke="0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  <a:lnTo>
                  <a:pt x="1296000" y="1295303"/>
                </a:lnTo>
                <a:lnTo>
                  <a:pt x="790040" y="102789"/>
                </a:lnTo>
                <a:close/>
              </a:path>
              <a:path fill="none" w="2592000" h="2590606">
                <a:moveTo>
                  <a:pt x="790040" y="102789"/>
                </a:moveTo>
                <a:cubicBezTo>
                  <a:pt x="1190157" y="-66790"/>
                  <a:pt x="1648682" y="-24636"/>
                  <a:pt x="2011132" y="215050"/>
                </a:cubicBezTo>
                <a:cubicBezTo>
                  <a:pt x="2373846" y="454910"/>
                  <a:pt x="2592000" y="860616"/>
                  <a:pt x="2592000" y="1295303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円弧 111"/>
          <p:cNvSpPr/>
          <p:nvPr/>
        </p:nvSpPr>
        <p:spPr>
          <a:xfrm flipV="1" rot="1843800">
            <a:off x="303120" y="226080"/>
            <a:ext cx="5435640" cy="5435280"/>
          </a:xfrm>
          <a:custGeom>
            <a:avLst/>
            <a:gdLst/>
            <a:ahLst/>
            <a:rect l="l" t="t" r="r" b="b"/>
            <a:pathLst>
              <a:path stroke="0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  <a:lnTo>
                  <a:pt x="2718000" y="2718000"/>
                </a:lnTo>
                <a:lnTo>
                  <a:pt x="1439799" y="319308"/>
                </a:lnTo>
                <a:close/>
              </a:path>
              <a:path fill="none" w="5436000" h="5436000">
                <a:moveTo>
                  <a:pt x="1439799" y="319308"/>
                </a:moveTo>
                <a:cubicBezTo>
                  <a:pt x="2282218" y="-129595"/>
                  <a:pt x="3298376" y="-103678"/>
                  <a:pt x="4116816" y="387585"/>
                </a:cubicBezTo>
                <a:cubicBezTo>
                  <a:pt x="4935256" y="878848"/>
                  <a:pt x="5436000" y="1763442"/>
                  <a:pt x="5436000" y="2718001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円弧 112"/>
          <p:cNvSpPr/>
          <p:nvPr/>
        </p:nvSpPr>
        <p:spPr>
          <a:xfrm flipV="1" rot="1855200">
            <a:off x="-321840" y="-2032200"/>
            <a:ext cx="9045360" cy="8209080"/>
          </a:xfrm>
          <a:custGeom>
            <a:avLst/>
            <a:gdLst/>
            <a:ahLst/>
            <a:rect l="l" t="t" r="r" b="b"/>
            <a:pathLst>
              <a:path stroke="0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  <a:lnTo>
                  <a:pt x="4522119" y="4104000"/>
                </a:lnTo>
                <a:lnTo>
                  <a:pt x="2742704" y="331077"/>
                </a:lnTo>
                <a:close/>
              </a:path>
              <a:path fill="none" w="9044238" h="8208000">
                <a:moveTo>
                  <a:pt x="2742704" y="331077"/>
                </a:moveTo>
                <a:cubicBezTo>
                  <a:pt x="4050161" y="-176799"/>
                  <a:pt x="5544711" y="-96885"/>
                  <a:pt x="6777408" y="546813"/>
                </a:cubicBezTo>
                <a:cubicBezTo>
                  <a:pt x="8179808" y="1279128"/>
                  <a:pt x="9044238" y="2635622"/>
                  <a:pt x="9044238" y="410400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テキスト ボックス 113"/>
          <p:cNvSpPr/>
          <p:nvPr/>
        </p:nvSpPr>
        <p:spPr>
          <a:xfrm>
            <a:off x="1692360" y="472824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テキスト ボックス 114"/>
          <p:cNvSpPr/>
          <p:nvPr/>
        </p:nvSpPr>
        <p:spPr>
          <a:xfrm>
            <a:off x="3635280" y="5232240"/>
            <a:ext cx="71748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テキスト ボックス 115"/>
          <p:cNvSpPr/>
          <p:nvPr/>
        </p:nvSpPr>
        <p:spPr>
          <a:xfrm>
            <a:off x="6084720" y="5592600"/>
            <a:ext cx="6620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Object 6"/>
          <p:cNvGraphicFramePr/>
          <p:nvPr/>
        </p:nvGraphicFramePr>
        <p:xfrm>
          <a:off x="7585200" y="3247920"/>
          <a:ext cx="887400" cy="118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85200" y="3247920"/>
                    <a:ext cx="8874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56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56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6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56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56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9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60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61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61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正方形/長方形 147"/>
          <p:cNvSpPr/>
          <p:nvPr/>
        </p:nvSpPr>
        <p:spPr>
          <a:xfrm>
            <a:off x="3995640" y="1424160"/>
            <a:ext cx="4842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65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65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65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65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66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grpSp>
        <p:nvGrpSpPr>
          <p:cNvPr id="671" name="グループ化 15"/>
          <p:cNvGrpSpPr/>
          <p:nvPr/>
        </p:nvGrpSpPr>
        <p:grpSpPr>
          <a:xfrm>
            <a:off x="1403280" y="396720"/>
            <a:ext cx="7237440" cy="621000"/>
            <a:chOff x="1403280" y="396720"/>
            <a:chExt cx="7237440" cy="621000"/>
          </a:xfrm>
        </p:grpSpPr>
        <p:sp>
          <p:nvSpPr>
            <p:cNvPr id="672" name="AutoShape 3"/>
            <p:cNvSpPr/>
            <p:nvPr/>
          </p:nvSpPr>
          <p:spPr>
            <a:xfrm>
              <a:off x="1403280" y="396720"/>
              <a:ext cx="7237440" cy="619560"/>
            </a:xfrm>
            <a:prstGeom prst="wedgeRoundRectCallout">
              <a:avLst>
                <a:gd name="adj1" fmla="val -53416"/>
                <a:gd name="adj2" fmla="val 23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　　と大きさの等しい分数の仲間は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73" name="Object 6"/>
            <p:cNvGraphicFramePr/>
            <p:nvPr/>
          </p:nvGraphicFramePr>
          <p:xfrm>
            <a:off x="1619280" y="396720"/>
            <a:ext cx="304560" cy="62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96720"/>
                      <a:ext cx="304560" cy="6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75" name=""/>
          <p:cNvGraphicFramePr/>
          <p:nvPr/>
        </p:nvGraphicFramePr>
        <p:xfrm>
          <a:off x="71280" y="1628640"/>
          <a:ext cx="8748720" cy="3888000"/>
        </p:xfrm>
        <a:graphic>
          <a:graphicData uri="http://schemas.openxmlformats.org/drawingml/2006/table">
            <a:tbl>
              <a:tblPr/>
              <a:tblGrid>
                <a:gridCol w="324000"/>
                <a:gridCol w="3254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544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3640"/>
              </a:tblGrid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6" name="グループ化 11"/>
          <p:cNvGrpSpPr/>
          <p:nvPr/>
        </p:nvGrpSpPr>
        <p:grpSpPr>
          <a:xfrm>
            <a:off x="390600" y="3362400"/>
            <a:ext cx="8069040" cy="214200"/>
            <a:chOff x="390600" y="3362400"/>
            <a:chExt cx="8069040" cy="214200"/>
          </a:xfrm>
        </p:grpSpPr>
        <p:grpSp>
          <p:nvGrpSpPr>
            <p:cNvPr id="677" name="グループ化 41"/>
            <p:cNvGrpSpPr/>
            <p:nvPr/>
          </p:nvGrpSpPr>
          <p:grpSpPr>
            <a:xfrm>
              <a:off x="390600" y="3362400"/>
              <a:ext cx="8069040" cy="214200"/>
              <a:chOff x="390600" y="3362400"/>
              <a:chExt cx="8069040" cy="214200"/>
            </a:xfrm>
          </p:grpSpPr>
          <p:sp>
            <p:nvSpPr>
              <p:cNvPr id="678" name="直線コネクタ 42"/>
              <p:cNvSpPr/>
              <p:nvPr/>
            </p:nvSpPr>
            <p:spPr>
              <a:xfrm>
                <a:off x="390600" y="357048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直線コネクタ 43"/>
              <p:cNvSpPr/>
              <p:nvPr/>
            </p:nvSpPr>
            <p:spPr>
              <a:xfrm>
                <a:off x="390600" y="336852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直線コネクタ 44"/>
              <p:cNvSpPr/>
              <p:nvPr/>
            </p:nvSpPr>
            <p:spPr>
              <a:xfrm>
                <a:off x="42796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直線コネクタ 45"/>
              <p:cNvSpPr/>
              <p:nvPr/>
            </p:nvSpPr>
            <p:spPr>
              <a:xfrm>
                <a:off x="8165880" y="336240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2" name="直線コネクタ 59"/>
            <p:cNvSpPr/>
            <p:nvPr/>
          </p:nvSpPr>
          <p:spPr>
            <a:xfrm>
              <a:off x="232740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線コネクタ 60"/>
            <p:cNvSpPr/>
            <p:nvPr/>
          </p:nvSpPr>
          <p:spPr>
            <a:xfrm>
              <a:off x="136584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線コネクタ 61"/>
            <p:cNvSpPr/>
            <p:nvPr/>
          </p:nvSpPr>
          <p:spPr>
            <a:xfrm>
              <a:off x="33123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直線コネクタ 62"/>
            <p:cNvSpPr/>
            <p:nvPr/>
          </p:nvSpPr>
          <p:spPr>
            <a:xfrm>
              <a:off x="6224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直線コネクタ 63"/>
            <p:cNvSpPr/>
            <p:nvPr/>
          </p:nvSpPr>
          <p:spPr>
            <a:xfrm>
              <a:off x="524412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線コネクタ 64"/>
            <p:cNvSpPr/>
            <p:nvPr/>
          </p:nvSpPr>
          <p:spPr>
            <a:xfrm>
              <a:off x="7196760" y="336240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テキスト ボックス 80"/>
          <p:cNvSpPr/>
          <p:nvPr/>
        </p:nvSpPr>
        <p:spPr>
          <a:xfrm>
            <a:off x="227160" y="29113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Object 6"/>
          <p:cNvGraphicFramePr/>
          <p:nvPr/>
        </p:nvGraphicFramePr>
        <p:xfrm>
          <a:off x="2243160" y="1814400"/>
          <a:ext cx="26352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3160" y="181440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テキスト ボックス 87"/>
          <p:cNvSpPr/>
          <p:nvPr/>
        </p:nvSpPr>
        <p:spPr>
          <a:xfrm>
            <a:off x="7996320" y="29098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Object 6"/>
          <p:cNvGraphicFramePr/>
          <p:nvPr/>
        </p:nvGraphicFramePr>
        <p:xfrm>
          <a:off x="4176720" y="1814400"/>
          <a:ext cx="262080" cy="53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7672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6"/>
          <p:cNvGraphicFramePr/>
          <p:nvPr/>
        </p:nvGraphicFramePr>
        <p:xfrm>
          <a:off x="6110280" y="1814400"/>
          <a:ext cx="262080" cy="53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0280" y="18144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Object 6"/>
          <p:cNvGraphicFramePr/>
          <p:nvPr/>
        </p:nvGraphicFramePr>
        <p:xfrm>
          <a:off x="1271520" y="2800440"/>
          <a:ext cx="263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71520" y="2800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Object 6"/>
          <p:cNvGraphicFramePr/>
          <p:nvPr/>
        </p:nvGraphicFramePr>
        <p:xfrm>
          <a:off x="2217600" y="2760840"/>
          <a:ext cx="263520" cy="53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7600" y="27608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Object 6"/>
          <p:cNvGraphicFramePr/>
          <p:nvPr/>
        </p:nvGraphicFramePr>
        <p:xfrm>
          <a:off x="3230640" y="2793960"/>
          <a:ext cx="26172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30640" y="279396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Object 6"/>
          <p:cNvGraphicFramePr/>
          <p:nvPr/>
        </p:nvGraphicFramePr>
        <p:xfrm>
          <a:off x="4176720" y="2784600"/>
          <a:ext cx="262080" cy="534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03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76720" y="278460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Object 6"/>
          <p:cNvGraphicFramePr/>
          <p:nvPr/>
        </p:nvGraphicFramePr>
        <p:xfrm>
          <a:off x="5154480" y="2760840"/>
          <a:ext cx="262080" cy="534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54480" y="27608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6"/>
          <p:cNvGraphicFramePr/>
          <p:nvPr/>
        </p:nvGraphicFramePr>
        <p:xfrm>
          <a:off x="6087960" y="2746440"/>
          <a:ext cx="26352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07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87960" y="27464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6"/>
          <p:cNvGraphicFramePr/>
          <p:nvPr/>
        </p:nvGraphicFramePr>
        <p:xfrm>
          <a:off x="7101000" y="2759040"/>
          <a:ext cx="26352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09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01000" y="2759040"/>
                    <a:ext cx="263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0" name="グループ化 4"/>
          <p:cNvGrpSpPr/>
          <p:nvPr/>
        </p:nvGrpSpPr>
        <p:grpSpPr>
          <a:xfrm>
            <a:off x="243000" y="1916280"/>
            <a:ext cx="8216640" cy="680760"/>
            <a:chOff x="243000" y="1916280"/>
            <a:chExt cx="8216640" cy="680760"/>
          </a:xfrm>
        </p:grpSpPr>
        <p:sp>
          <p:nvSpPr>
            <p:cNvPr id="711" name="直線コネクタ 3"/>
            <p:cNvSpPr/>
            <p:nvPr/>
          </p:nvSpPr>
          <p:spPr>
            <a:xfrm>
              <a:off x="395280" y="2597040"/>
              <a:ext cx="806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5"/>
            <p:cNvSpPr/>
            <p:nvPr/>
          </p:nvSpPr>
          <p:spPr>
            <a:xfrm>
              <a:off x="395280" y="23806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直線コネクタ 27"/>
            <p:cNvSpPr/>
            <p:nvPr/>
          </p:nvSpPr>
          <p:spPr>
            <a:xfrm>
              <a:off x="233928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直線コネクタ 28"/>
            <p:cNvSpPr/>
            <p:nvPr/>
          </p:nvSpPr>
          <p:spPr>
            <a:xfrm>
              <a:off x="8171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テキスト ボックス 14"/>
            <p:cNvSpPr/>
            <p:nvPr/>
          </p:nvSpPr>
          <p:spPr>
            <a:xfrm>
              <a:off x="24300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テキスト ボックス 86"/>
            <p:cNvSpPr/>
            <p:nvPr/>
          </p:nvSpPr>
          <p:spPr>
            <a:xfrm>
              <a:off x="8002440" y="191628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直線コネクタ 101"/>
            <p:cNvSpPr/>
            <p:nvPr/>
          </p:nvSpPr>
          <p:spPr>
            <a:xfrm>
              <a:off x="4280400" y="236808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直線コネクタ 102"/>
            <p:cNvSpPr/>
            <p:nvPr/>
          </p:nvSpPr>
          <p:spPr>
            <a:xfrm>
              <a:off x="6227640" y="2361600"/>
              <a:ext cx="0" cy="21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グループ化 117"/>
          <p:cNvGrpSpPr/>
          <p:nvPr/>
        </p:nvGrpSpPr>
        <p:grpSpPr>
          <a:xfrm>
            <a:off x="390600" y="4332240"/>
            <a:ext cx="8069040" cy="208080"/>
            <a:chOff x="390600" y="4332240"/>
            <a:chExt cx="8069040" cy="208080"/>
          </a:xfrm>
        </p:grpSpPr>
        <p:grpSp>
          <p:nvGrpSpPr>
            <p:cNvPr id="720" name="グループ化 118"/>
            <p:cNvGrpSpPr/>
            <p:nvPr/>
          </p:nvGrpSpPr>
          <p:grpSpPr>
            <a:xfrm>
              <a:off x="390600" y="4332240"/>
              <a:ext cx="8069040" cy="208080"/>
              <a:chOff x="390600" y="4332240"/>
              <a:chExt cx="8069040" cy="208080"/>
            </a:xfrm>
          </p:grpSpPr>
          <p:sp>
            <p:nvSpPr>
              <p:cNvPr id="721" name="直線コネクタ 125"/>
              <p:cNvSpPr/>
              <p:nvPr/>
            </p:nvSpPr>
            <p:spPr>
              <a:xfrm>
                <a:off x="390600" y="4540320"/>
                <a:ext cx="8069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直線コネクタ 126"/>
              <p:cNvSpPr/>
              <p:nvPr/>
            </p:nvSpPr>
            <p:spPr>
              <a:xfrm>
                <a:off x="3906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線コネクタ 127"/>
              <p:cNvSpPr/>
              <p:nvPr/>
            </p:nvSpPr>
            <p:spPr>
              <a:xfrm>
                <a:off x="298800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直線コネクタ 128"/>
              <p:cNvSpPr/>
              <p:nvPr/>
            </p:nvSpPr>
            <p:spPr>
              <a:xfrm>
                <a:off x="8169120" y="4332240"/>
                <a:ext cx="0" cy="208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5" name="直線コネクタ 119"/>
            <p:cNvSpPr/>
            <p:nvPr/>
          </p:nvSpPr>
          <p:spPr>
            <a:xfrm>
              <a:off x="1692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120"/>
            <p:cNvSpPr/>
            <p:nvPr/>
          </p:nvSpPr>
          <p:spPr>
            <a:xfrm>
              <a:off x="1044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121"/>
            <p:cNvSpPr/>
            <p:nvPr/>
          </p:nvSpPr>
          <p:spPr>
            <a:xfrm>
              <a:off x="234000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線コネクタ 122"/>
            <p:cNvSpPr/>
            <p:nvPr/>
          </p:nvSpPr>
          <p:spPr>
            <a:xfrm>
              <a:off x="4284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線コネクタ 123"/>
            <p:cNvSpPr/>
            <p:nvPr/>
          </p:nvSpPr>
          <p:spPr>
            <a:xfrm>
              <a:off x="3636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直線コネクタ 124"/>
            <p:cNvSpPr/>
            <p:nvPr/>
          </p:nvSpPr>
          <p:spPr>
            <a:xfrm>
              <a:off x="4932360" y="4332240"/>
              <a:ext cx="0" cy="20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テキスト ボックス 129"/>
          <p:cNvSpPr/>
          <p:nvPr/>
        </p:nvSpPr>
        <p:spPr>
          <a:xfrm>
            <a:off x="225360" y="3881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テキスト ボックス 130"/>
          <p:cNvSpPr/>
          <p:nvPr/>
        </p:nvSpPr>
        <p:spPr>
          <a:xfrm>
            <a:off x="7994520" y="387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863640" y="3730680"/>
          <a:ext cx="393840" cy="534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63640" y="37306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6"/>
          <p:cNvGraphicFramePr/>
          <p:nvPr/>
        </p:nvGraphicFramePr>
        <p:xfrm>
          <a:off x="2152800" y="3730680"/>
          <a:ext cx="393480" cy="534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36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152800" y="3730680"/>
                    <a:ext cx="393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6"/>
          <p:cNvGraphicFramePr/>
          <p:nvPr/>
        </p:nvGraphicFramePr>
        <p:xfrm>
          <a:off x="2820960" y="3728880"/>
          <a:ext cx="395280" cy="535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38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820960" y="3728880"/>
                    <a:ext cx="3952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6"/>
          <p:cNvGraphicFramePr/>
          <p:nvPr/>
        </p:nvGraphicFramePr>
        <p:xfrm>
          <a:off x="3465360" y="3728880"/>
          <a:ext cx="397080" cy="53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4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46536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6"/>
          <p:cNvGraphicFramePr/>
          <p:nvPr/>
        </p:nvGraphicFramePr>
        <p:xfrm>
          <a:off x="4110120" y="3730680"/>
          <a:ext cx="395280" cy="534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742" name="Object 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110120" y="373068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Object 6"/>
          <p:cNvGraphicFramePr/>
          <p:nvPr/>
        </p:nvGraphicFramePr>
        <p:xfrm>
          <a:off x="4762440" y="3728880"/>
          <a:ext cx="397080" cy="535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744" name="Object 6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762440" y="3728880"/>
                    <a:ext cx="39708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6"/>
          <p:cNvGraphicFramePr/>
          <p:nvPr/>
        </p:nvGraphicFramePr>
        <p:xfrm>
          <a:off x="5407200" y="3728880"/>
          <a:ext cx="396720" cy="535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746" name="Object 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07200" y="3728880"/>
                    <a:ext cx="3967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直線コネクタ 138"/>
          <p:cNvSpPr/>
          <p:nvPr/>
        </p:nvSpPr>
        <p:spPr>
          <a:xfrm>
            <a:off x="6227640" y="4317840"/>
            <a:ext cx="0" cy="209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線コネクタ 139"/>
          <p:cNvSpPr/>
          <p:nvPr/>
        </p:nvSpPr>
        <p:spPr>
          <a:xfrm>
            <a:off x="5580000" y="432432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線コネクタ 140"/>
          <p:cNvSpPr/>
          <p:nvPr/>
        </p:nvSpPr>
        <p:spPr>
          <a:xfrm>
            <a:off x="7524720" y="4344840"/>
            <a:ext cx="0" cy="209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線コネクタ 141"/>
          <p:cNvSpPr/>
          <p:nvPr/>
        </p:nvSpPr>
        <p:spPr>
          <a:xfrm>
            <a:off x="6875640" y="4343400"/>
            <a:ext cx="0" cy="208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1" name="Object 6"/>
          <p:cNvGraphicFramePr/>
          <p:nvPr/>
        </p:nvGraphicFramePr>
        <p:xfrm>
          <a:off x="1511280" y="3716280"/>
          <a:ext cx="393840" cy="53496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752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1511280" y="3716280"/>
                    <a:ext cx="393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6"/>
          <p:cNvGraphicFramePr/>
          <p:nvPr/>
        </p:nvGraphicFramePr>
        <p:xfrm>
          <a:off x="6051600" y="3716280"/>
          <a:ext cx="396720" cy="53496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754" name="Object 6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051600" y="37162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6"/>
          <p:cNvGraphicFramePr/>
          <p:nvPr/>
        </p:nvGraphicFramePr>
        <p:xfrm>
          <a:off x="6700680" y="3716280"/>
          <a:ext cx="397080" cy="5349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756" name="Object 6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700680" y="3716280"/>
                    <a:ext cx="397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6"/>
          <p:cNvGraphicFramePr/>
          <p:nvPr/>
        </p:nvGraphicFramePr>
        <p:xfrm>
          <a:off x="7369200" y="3730680"/>
          <a:ext cx="396720" cy="53496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758" name="Object 6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369200" y="373068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正方形/長方形 147"/>
          <p:cNvSpPr/>
          <p:nvPr/>
        </p:nvSpPr>
        <p:spPr>
          <a:xfrm>
            <a:off x="5985000" y="1422360"/>
            <a:ext cx="482400" cy="4308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0" name="Object 6"/>
          <p:cNvGraphicFramePr/>
          <p:nvPr/>
        </p:nvGraphicFramePr>
        <p:xfrm>
          <a:off x="1523880" y="6175440"/>
          <a:ext cx="262080" cy="5349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761" name="Object 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523880" y="6175440"/>
                    <a:ext cx="262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6"/>
          <p:cNvGraphicFramePr/>
          <p:nvPr/>
        </p:nvGraphicFramePr>
        <p:xfrm>
          <a:off x="2152800" y="6175440"/>
          <a:ext cx="261720" cy="534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763" name="Object 6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2152800" y="6175440"/>
                    <a:ext cx="26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6"/>
          <p:cNvGraphicFramePr/>
          <p:nvPr/>
        </p:nvGraphicFramePr>
        <p:xfrm>
          <a:off x="2714760" y="6175440"/>
          <a:ext cx="39672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765" name="Object 6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271476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6"/>
          <p:cNvGraphicFramePr/>
          <p:nvPr/>
        </p:nvGraphicFramePr>
        <p:xfrm>
          <a:off x="3343320" y="6175440"/>
          <a:ext cx="39672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767" name="Object 6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3343320" y="6175440"/>
                    <a:ext cx="396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6"/>
          <p:cNvGraphicFramePr/>
          <p:nvPr/>
        </p:nvGraphicFramePr>
        <p:xfrm>
          <a:off x="4038480" y="6175440"/>
          <a:ext cx="395280" cy="534960"/>
        </p:xfrm>
        <a:graphic>
          <a:graphicData uri="http://schemas.openxmlformats.org/presentationml/2006/ole">
            <p:oleObj r:id="rId54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4038480" y="6175440"/>
                    <a:ext cx="395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テキスト ボックス 74"/>
          <p:cNvSpPr/>
          <p:nvPr/>
        </p:nvSpPr>
        <p:spPr>
          <a:xfrm>
            <a:off x="17334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テキスト ボックス 75"/>
          <p:cNvSpPr/>
          <p:nvPr/>
        </p:nvSpPr>
        <p:spPr>
          <a:xfrm>
            <a:off x="23511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テキスト ボックス 76"/>
          <p:cNvSpPr/>
          <p:nvPr/>
        </p:nvSpPr>
        <p:spPr>
          <a:xfrm>
            <a:off x="303696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テキスト ボックス 77"/>
          <p:cNvSpPr/>
          <p:nvPr/>
        </p:nvSpPr>
        <p:spPr>
          <a:xfrm>
            <a:off x="3643200" y="6242040"/>
            <a:ext cx="4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4" name="グループ化 78"/>
          <p:cNvGrpSpPr/>
          <p:nvPr/>
        </p:nvGrpSpPr>
        <p:grpSpPr>
          <a:xfrm>
            <a:off x="250920" y="4836960"/>
            <a:ext cx="8218440" cy="679680"/>
            <a:chOff x="250920" y="4836960"/>
            <a:chExt cx="8218440" cy="679680"/>
          </a:xfrm>
        </p:grpSpPr>
        <p:sp>
          <p:nvSpPr>
            <p:cNvPr id="775" name="直線コネクタ 79"/>
            <p:cNvSpPr/>
            <p:nvPr/>
          </p:nvSpPr>
          <p:spPr>
            <a:xfrm>
              <a:off x="403200" y="5516640"/>
              <a:ext cx="806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81"/>
            <p:cNvSpPr/>
            <p:nvPr/>
          </p:nvSpPr>
          <p:spPr>
            <a:xfrm>
              <a:off x="403200" y="530064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82"/>
            <p:cNvSpPr/>
            <p:nvPr/>
          </p:nvSpPr>
          <p:spPr>
            <a:xfrm>
              <a:off x="8181360" y="5281560"/>
              <a:ext cx="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テキスト ボックス 83"/>
            <p:cNvSpPr/>
            <p:nvPr/>
          </p:nvSpPr>
          <p:spPr>
            <a:xfrm>
              <a:off x="25092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テキスト ボックス 84"/>
            <p:cNvSpPr/>
            <p:nvPr/>
          </p:nvSpPr>
          <p:spPr>
            <a:xfrm>
              <a:off x="8012160" y="4836960"/>
              <a:ext cx="2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0-19T02:43:42Z</dcterms:modified>
  <cp:revision>46</cp:revision>
  <dc:subject/>
  <dc:title>スライド 1</dc:title>
</cp:coreProperties>
</file>