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0A4-ABAB-48C4-B56D-63C44522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050-F690-49DF-B625-0FF17C1A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B5D-2A09-4699-AB5D-5F8F5BB5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1F9-6AF4-4978-95E0-F4F42D9E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B1F-CB7F-418F-9980-2A8327DA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8F7-82C0-4B93-AFBD-049F17CE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D65-06A4-4301-9048-365BDD4F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8B8-53D2-4C5A-96F5-3F391428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E1F-8583-46C7-A4BA-8A497046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B22-FB93-4E61-8D10-EE422C78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1E5-C13C-4B32-8AD2-3EA34484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7D7-AFC3-4074-B0E0-136FD529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8AA9-FDDC-4B5F-A51C-5B5F7B5D6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3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9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15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23.wmf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1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2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3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8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9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0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5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5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16"/>
          <p:cNvSpPr/>
          <p:nvPr/>
        </p:nvSpPr>
        <p:spPr>
          <a:xfrm>
            <a:off x="3813120" y="1557360"/>
            <a:ext cx="484200" cy="380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3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4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5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49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54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55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62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63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72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73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84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85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3884760" y="4552920"/>
          <a:ext cx="39528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正方形/長方形 16"/>
          <p:cNvSpPr/>
          <p:nvPr/>
        </p:nvSpPr>
        <p:spPr>
          <a:xfrm>
            <a:off x="3797280" y="1557360"/>
            <a:ext cx="482760" cy="6127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正方形/長方形 116"/>
          <p:cNvSpPr/>
          <p:nvPr/>
        </p:nvSpPr>
        <p:spPr>
          <a:xfrm>
            <a:off x="3797280" y="1569960"/>
            <a:ext cx="482760" cy="38037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6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16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6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16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17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17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17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18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18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19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20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20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781360" y="6175440"/>
          <a:ext cx="263520" cy="53496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278136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6"/>
          <p:cNvGraphicFramePr/>
          <p:nvPr/>
        </p:nvGraphicFramePr>
        <p:xfrm>
          <a:off x="3409920" y="6175440"/>
          <a:ext cx="263520" cy="53496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340992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テキスト ボックス 2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テキスト ボックス 120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テキスト ボックス 121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テキスト ボックス 122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正方形/長方形 116"/>
          <p:cNvSpPr/>
          <p:nvPr/>
        </p:nvSpPr>
        <p:spPr>
          <a:xfrm>
            <a:off x="1981080" y="2217600"/>
            <a:ext cx="484200" cy="430704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29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29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9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29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30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30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30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31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31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32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33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33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8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05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06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07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9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0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411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412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4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445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454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455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9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7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7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8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486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488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492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正方形/長方形 147"/>
          <p:cNvSpPr/>
          <p:nvPr/>
        </p:nvSpPr>
        <p:spPr>
          <a:xfrm>
            <a:off x="208296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495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497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99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501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テキスト ボックス 153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テキスト ボックス 154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テキスト ボックス 155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テキスト ボックス 156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グループ化 157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509" name="直線コネクタ 158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159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161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テキスト ボックス 162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テキスト ボックス 163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6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テキスト ボックス 6"/>
          <p:cNvSpPr/>
          <p:nvPr/>
        </p:nvSpPr>
        <p:spPr>
          <a:xfrm>
            <a:off x="1692360" y="23932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テキスト ボックス 90"/>
          <p:cNvSpPr/>
          <p:nvPr/>
        </p:nvSpPr>
        <p:spPr>
          <a:xfrm>
            <a:off x="3430440" y="18075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テキスト ボックス 93"/>
          <p:cNvSpPr/>
          <p:nvPr/>
        </p:nvSpPr>
        <p:spPr>
          <a:xfrm>
            <a:off x="5894280" y="14677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円弧 112"/>
          <p:cNvSpPr/>
          <p:nvPr/>
        </p:nvSpPr>
        <p:spPr>
          <a:xfrm flipV="1" rot="1855200">
            <a:off x="-322200" y="-2016720"/>
            <a:ext cx="9045360" cy="82072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テキスト ボックス 113"/>
          <p:cNvSpPr/>
          <p:nvPr/>
        </p:nvSpPr>
        <p:spPr>
          <a:xfrm>
            <a:off x="1692360" y="453312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テキスト ボックス 114"/>
          <p:cNvSpPr/>
          <p:nvPr/>
        </p:nvSpPr>
        <p:spPr>
          <a:xfrm>
            <a:off x="3430440" y="50824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テキスト ボックス 115"/>
          <p:cNvSpPr/>
          <p:nvPr/>
        </p:nvSpPr>
        <p:spPr>
          <a:xfrm>
            <a:off x="5894280" y="55015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テキスト ボックス 6"/>
          <p:cNvSpPr/>
          <p:nvPr/>
        </p:nvSpPr>
        <p:spPr>
          <a:xfrm>
            <a:off x="1692360" y="235080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テキスト ボックス 90"/>
          <p:cNvSpPr/>
          <p:nvPr/>
        </p:nvSpPr>
        <p:spPr>
          <a:xfrm>
            <a:off x="3492360" y="1774800"/>
            <a:ext cx="6969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テキスト ボックス 93"/>
          <p:cNvSpPr/>
          <p:nvPr/>
        </p:nvSpPr>
        <p:spPr>
          <a:xfrm>
            <a:off x="6084720" y="1528560"/>
            <a:ext cx="7081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円弧 112"/>
          <p:cNvSpPr/>
          <p:nvPr/>
        </p:nvSpPr>
        <p:spPr>
          <a:xfrm flipV="1" rot="1855200">
            <a:off x="-321840" y="-2032200"/>
            <a:ext cx="9045360" cy="82090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テキスト ボックス 113"/>
          <p:cNvSpPr/>
          <p:nvPr/>
        </p:nvSpPr>
        <p:spPr>
          <a:xfrm>
            <a:off x="1692360" y="472824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テキスト ボックス 114"/>
          <p:cNvSpPr/>
          <p:nvPr/>
        </p:nvSpPr>
        <p:spPr>
          <a:xfrm>
            <a:off x="3635280" y="5232240"/>
            <a:ext cx="7174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テキスト ボックス 115"/>
          <p:cNvSpPr/>
          <p:nvPr/>
        </p:nvSpPr>
        <p:spPr>
          <a:xfrm>
            <a:off x="6084720" y="5592600"/>
            <a:ext cx="6620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6"/>
          <p:cNvGraphicFramePr/>
          <p:nvPr/>
        </p:nvGraphicFramePr>
        <p:xfrm>
          <a:off x="7585200" y="3247920"/>
          <a:ext cx="887400" cy="11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85200" y="3247920"/>
                    <a:ext cx="8874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56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56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6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56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56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60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61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61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正方形/長方形 147"/>
          <p:cNvSpPr/>
          <p:nvPr/>
        </p:nvSpPr>
        <p:spPr>
          <a:xfrm>
            <a:off x="399564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65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65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65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65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66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67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67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7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67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67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0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71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72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72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3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4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74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74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4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5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75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75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75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正方形/長方形 147"/>
          <p:cNvSpPr/>
          <p:nvPr/>
        </p:nvSpPr>
        <p:spPr>
          <a:xfrm>
            <a:off x="5985000" y="1422360"/>
            <a:ext cx="4824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76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76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77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0-19T02:43:42Z</dcterms:modified>
  <cp:revision>46</cp:revision>
  <dc:subject/>
  <dc:title>スライド 1</dc:title>
</cp:coreProperties>
</file>